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D06-BE0A-43EC-9DDD-00CC3D52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182-E893-471B-A808-E1462689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AF6-CD9C-4050-B59F-6FE1675E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416A-E952-4D1A-918F-03AE6165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B7B-1A9E-4199-B483-8C304D3B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2CC-C71F-4E87-9039-9D9136CE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BB7-7F3F-4169-86C8-59E74D6A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8EC-D5E4-4795-8F06-7406385D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EA5-D46F-48B7-8E83-D6C5DBBD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617-BA2B-4BAC-BBD7-2ED80BD0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429-FC17-4D10-AA60-AC7E0B1E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059-E097-4D87-9F0B-518DDBDF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021F-18E1-419B-81E6-DC5E1B4E209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ference AKAT/S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ext Steps in Asset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atislava, 26. dubna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pozitář po účinnosti nového zákona o investičních společnostech a investičních fondech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 bude pro depozitáře znamenat „neomezená odpovědnost bez ohledu na zavinění?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na všechny oblasti kontroly depozitáře aplikovat kontroly pouze ex post (nyní převážně  ex ante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ze při ex post kontrole přijmout neomezenou odpovědnost depozitář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izika vyplývající z navrhované legislati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rovnováha v detailně popsaných náležitostech depozitářské smlouvy a zcela obecným popisem převratné změny v úrovni kontrolní činnosti depozitář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existence prováděcích předpisů – budou v ČR přísnější než ukládají evropské předpis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ý bude v konečném důsledku dopad do reálných kontrolních procesů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udou mít vůbec banky nadále zájem tyto služby poskytov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u cenu budou banky za riziko  v případě neomezené odpovědnosti požadov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5:10:15Z</dcterms:created>
  <dc:creator>jboskov1</dc:creator>
  <dc:description/>
  <dc:language>en-US</dc:language>
  <cp:lastModifiedBy>Jana Michalíková - AKAT</cp:lastModifiedBy>
  <dcterms:modified xsi:type="dcterms:W3CDTF">2012-04-24T12:59:08Z</dcterms:modified>
  <cp:revision>11</cp:revision>
  <dc:subject/>
  <dc:title>Konference AKAT/SASS</dc:title>
</cp:coreProperties>
</file>