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2872-A142-46EE-AF99-8F0F1D0E3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48F-D4E7-429A-BD88-9E1F8754C7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FBEA-B30B-47D2-A8D5-391BA860DA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A92-B0CB-46E9-BDDC-3B411B2FC3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1D9-8103-4201-9E25-8FAE2AED47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5424-D3C2-4811-8DEA-5A802524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A275-B48E-48C6-872D-DEAF9FB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2394-B240-4C9F-9013-0E355638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D728-2E3F-4AF0-9B83-0F89E356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0ACA-B336-46BD-B985-8819F29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68D9-00AE-4467-B5B9-6FDEBEA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3804-D282-483A-A8CE-F897B395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D20F-4303-44A2-9D9D-AD8D5E63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F65-67CB-4231-8238-9C3026AC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7789-9A1E-44A5-927A-C1883AA6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9D2B-032B-4842-868E-072572D9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F55F-527E-4CEB-BC39-D9EB555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180D-8224-406F-936D-E4F6684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6FA4-3354-472A-959C-A87B600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45EA-0314-4B66-8355-1E58934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D046-FEA9-49E8-887C-DC79A286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9478-D584-4AE4-9F42-F469CBFD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DDA1-C4C0-4501-846F-A783A23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2C23-7424-4BFA-A3B3-053FCD4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E167-E17B-4AF6-A67F-39729870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28A2-E252-4C7F-A367-2FF40DD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77ED-18A8-4ADC-AE06-57F828F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6B55-249C-4B7C-A847-8EC25B4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ACD5-0EB9-4F18-A55C-F6A6E7E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E120-DFCB-4C92-BDAE-420E4832A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8246-AC65-4177-8A1D-0022B0D6C6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iFID II/MiF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91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jpodstatnější problematické okruhy pro Č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Bratislava, 26. dubna 201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lanketní“ forma návrhu, faktický přesun pravomocí na EK a ESMA – ČR požaduje mnohem detailnější vymezení pravidel již na „level I“; špatně nastavená pravidla na level II by například výrazně prodražila korporátní i státní financování a zajišťování proti rizikům;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e-trade transparency ohledně obchodů s dluhovými nástroji a deriváty - nerespektuje odlišný charakter obchodů s těmito finančními instrumenty od obchodů s akciemi (maturity, counterparty credit risk contra settlement risk, rozdílná likvidita a frekvence obchodování, složení a počet účastníků na trhu atd.) – ČR požaduje vyjmout „wholesale market“ a zavést pravidla pouze pro vysoce likvidní aktiva; nutné oddělit pravidla pro dluhové nástroje a deriváty; ideální by bylo fázování celého procesu (začít s post-trade transparencí a postupně rozšiřovat regulaci i na před-obchodní fázi u nejlikvidnějších aktiv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OTF a SI – ČR požaduje zachování pro OTF obchodování na vlastní účet, zachování hybridních i voice broking platforem; SI – pro jednotlivé finanční nástroje, „firm quotes“ jen pro retailové klienty; není jasné, jak by fungoval RFQ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algoritmického obchodování – ČR nesouhlasí s tak přemrštěnou regulací (povinný market making pro všechny uživatele algoritmického obchodování – včetně retailových klientů, CCP a CSD?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ztah s třetími zeměmi – mechanismus uznávání obchodních míst (v souvislosti s trading obligation) z  třetích zemí je pro ČR velmi problematický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9:07Z</dcterms:modified>
  <cp:revision>20</cp:revision>
  <dc:subject/>
  <dc:title>Snímek 1</dc:title>
</cp:coreProperties>
</file>