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4A-F15A-41C3-8B21-82CA1A9A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F77-B709-46FA-AA60-208FBB8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DA9-CFC3-495C-9B37-32AF4367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C55-F1C4-47F8-8159-945D137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06E5-3E8F-4598-B610-611B253B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160-7059-462B-B109-E2CAB6C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07A-8B66-4395-B2CB-0C64975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2FAB-E21E-456F-9F14-8E3F9432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5FEB-CAF6-48DC-AA6B-ED1A6DB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D3B1-A4BD-4D07-8FC7-E9BED65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8CF-D255-49E7-9228-59C9EE3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2DF-26C0-4450-B3D8-170F6071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7C0-3143-4066-98E0-DD41D9E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360A-5716-4F8C-928A-58CBA922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EB1-C859-45EC-AE27-722FAE07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1C7-EEFC-44DA-A494-BA9F96FA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868-2125-4D0A-AACF-AC44BE2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D91-454E-47AC-87A6-3E803B8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265-66BC-4259-BC29-B5D8883F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AE3-A65C-4533-81D1-CC6E097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D20-7634-4C9C-B058-32173480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924-DA55-4573-A00D-64368D9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658-E3D1-4F9B-9D2F-2196E70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082-5439-484F-84E2-232F2DA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9B9-B7C1-4647-87E2-1F4834B6FF4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4C7C-1985-4301-83EC-48BBBC2888A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AIMFD – implementace v České republ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vý harmon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IFMD a související předpisy EU (prováděcí nařízení, EuVeCaF, EuSEF, UCITS 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etí transpozice v Č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atforma nového zák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sobnost: AIFM a A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a negativní rozsah doh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5:50Z</dcterms:modified>
  <cp:revision>5</cp:revision>
  <dc:subject/>
  <dc:title>AIMFD – implementace v České republice</dc:title>
</cp:coreProperties>
</file>