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27B382D-833E-4421-9878-1D5BD972D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8F82800-0B1F-4379-BEA3-1228B947C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2F49467-6C4C-4762-9BC8-22FDF1733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FB645C35-EF03-42D8-95A3-EFD18D828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006DABD2-11B4-4448-BDF2-402B57EFB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1AE56DB-4316-4F04-99C2-0FBDD45AA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509D294B-395D-4AE9-8EC5-CAFF9E928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381-5A89-4B7B-A6A1-FFF9F9F7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5FC-E488-4FFF-ABBA-8DE0911A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F20-C3E9-41E3-BCF8-C33E8067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8AB-AB45-4061-AD2E-CDD84C2D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31B-449E-40A4-B9EF-7C7C06FF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819-355F-4828-AAD7-B8B82E0B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045-56DC-46FF-B5F4-0816CD5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94D-A98C-4AE4-8501-F746D0F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46F-4B19-4D52-AC14-62C9D893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7E4-100B-4F20-9F3F-EBC6D4E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8F2-996F-43BE-9992-DDDE7AB7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CA7-92CC-4C72-9E21-B5A3F10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A59-8D5E-4696-BDC4-FA465BDC5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AKAT_česky_pozadí-losos"/>
          <p:cNvPicPr/>
          <p:nvPr/>
        </p:nvPicPr>
        <p:blipFill>
          <a:blip r:embed="rId2"/>
          <a:stretch/>
        </p:blipFill>
        <p:spPr>
          <a:xfrm>
            <a:off x="7451640" y="6093000"/>
            <a:ext cx="1548000" cy="60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katc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755640" y="371628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49373"/>
                </a:solidFill>
                <a:latin typeface="Arial"/>
              </a:rPr>
              <a:t>Konference Next Steps in Asse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49373"/>
                </a:solidFill>
                <a:latin typeface="Arial"/>
              </a:rPr>
              <a:t>26. dubna 2012, Bratisl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49373"/>
                </a:solidFill>
                <a:latin typeface="Arial"/>
              </a:rPr>
              <a:t>Nové produktové možnosti –budoucnost Č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49373"/>
                </a:solidFill>
                <a:latin typeface="Arial"/>
              </a:rPr>
              <a:t>Josef Beneš, Předseda AKAT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6" descr="AKAT_česky_pozadí-losos"/>
          <p:cNvPicPr/>
          <p:nvPr/>
        </p:nvPicPr>
        <p:blipFill>
          <a:blip r:embed="rId1"/>
          <a:stretch/>
        </p:blipFill>
        <p:spPr>
          <a:xfrm>
            <a:off x="2484360" y="2060640"/>
            <a:ext cx="46418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Kdo bude těžit z AIFM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Lucembu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I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Švýca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Snaha soustředit se na služby s vyšší přidanou hodnotou jako </a:t>
            </a:r>
            <a:r>
              <a:rPr b="0" lang="en-GB" sz="2200" spc="-1" strike="noStrike">
                <a:solidFill>
                  <a:srgbClr val="990033"/>
                </a:solidFill>
                <a:latin typeface="Arial"/>
              </a:rPr>
              <a:t>risk management a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990033"/>
                </a:solidFill>
                <a:latin typeface="Arial"/>
              </a:rPr>
              <a:t>corporate governance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M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Člen eurozó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Co očekávají manažeři alternativní fondů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Značné zkušenosti a expertízu v administrování různých typů fondů – mezinárodně uznávaná jurisdi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Široký výběr mezi administ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Rozsáhlá mezinárodní distribuce fon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hodný daňový režim (fondy i administrátoř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střícný regulátor a stabilní legislati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Efektivní listování investičních fondů na bu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hodná poloha, angličtina a jednotná mě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áklady AIF (Hedge fondů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Obhospodařovatelský poplatek – kolem 200b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le HedgeFundsReview poplatek za správu závisí na fondu – typ, velikost, strategie: </a:t>
            </a:r>
            <a:r>
              <a:rPr b="0" lang="en-GB" sz="2600" spc="-1" strike="noStrike">
                <a:solidFill>
                  <a:srgbClr val="990033"/>
                </a:solidFill>
                <a:latin typeface="Arial"/>
              </a:rPr>
              <a:t>8bp </a:t>
            </a: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990033"/>
                </a:solidFill>
                <a:latin typeface="Arial"/>
              </a:rPr>
              <a:t> 20bp</a:t>
            </a: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jde ke zvýšení těchto nákladů v důsledku AIFMD – regulatorní náklady,  větší nutnost automatizace, případně na vytvoření paralelní struktury v EU, nebo klonu, nebo feed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U hedge fondů: soustředění na kvalitu poskytovan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Děkuji za pozornost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Asociace pro kapitálový trh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Štěpánská 16/6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110 00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Tel.: +420 224 919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Fax: +420 224 919 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www.akatcr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cc"/>
                </a:solidFill>
                <a:latin typeface="Arial"/>
              </a:rPr>
              <a:t>Nové produktové možnos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Trh v ČR po přijetí nového zákona upravujícího kolektivní invest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Trh v EU a očekávaný vývoj po implementaci AIF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cc"/>
                </a:solidFill>
                <a:latin typeface="Arial"/>
              </a:rPr>
              <a:t>Historický vývoj 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aktiv ve správě</a:t>
            </a:r>
            <a:r>
              <a:rPr b="0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cc"/>
                </a:solidFill>
                <a:latin typeface="Arial"/>
              </a:rPr>
              <a:t>(v ml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sz="2400" spc="-1" strike="noStrike">
                <a:solidFill>
                  <a:srgbClr val="ffffcc"/>
                </a:solidFill>
                <a:latin typeface="Arial"/>
              </a:rPr>
              <a:t>. CZK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" name="Chart 1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Historický vývoj majetku v podílových fondech v Č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Fondy kvalifikovaných investorů - vývoj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78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Trendy roku 2011 v oblasti investová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Rostoucí zájem o individuální správu aktiv (fondy kvalifikovaných investorů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Vytváření fondových struktur pro menší počet inves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Zájem investorů podílet se na řízení fond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Konsolidace odvětv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Transformace těchto principů do nového zá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Příprava nového Záko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Implementace směrnice AIFM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Nové produktové možnosti v právní úprav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Investiční fond jako varianta akciové společnosti, která obdobně jako podílový fond průběžně vydává a </a:t>
            </a:r>
            <a:r>
              <a:rPr b="0" lang="pl-PL" sz="2200" spc="-1" strike="noStrike">
                <a:solidFill>
                  <a:srgbClr val="990033"/>
                </a:solidFill>
                <a:latin typeface="Arial"/>
              </a:rPr>
              <a:t>odkupuje akcie, které odkupem zanikají 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včetně možnosti podfondů (SICA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Oddělení funkce obhospodařování a administrace fon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Probíhající diskuze nad nastavením nového zá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Historický vývoj majetku ve fondech členů EFA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5" name="Zástupný symbol pro obsah 3" descr=""/>
          <p:cNvPicPr/>
          <p:nvPr/>
        </p:nvPicPr>
        <p:blipFill>
          <a:blip r:embed="rId1"/>
          <a:stretch/>
        </p:blipFill>
        <p:spPr>
          <a:xfrm>
            <a:off x="1203480" y="1981080"/>
            <a:ext cx="67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Dopady AIFMD na off-shore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pad na správc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Dle AIFMD všichni správci AIFs (non-UCITS), kteří chtějí tyto fondy v EU nabízet nebo spravovat, musejí být registrováni v EU a splňovat pravidla AIF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pady na off-shore fond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Ztratí některé z výhody off-shore destinací (levnější compli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Nejsou jasná pravidla pro referenční stát, nastane regulatorní arbitráž, případně klonování fon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7:46:14Z</dcterms:created>
  <dc:creator>pzaplet</dc:creator>
  <dc:description/>
  <dc:language>en-US</dc:language>
  <cp:lastModifiedBy>Jana Michalíková - AKAT</cp:lastModifiedBy>
  <cp:lastPrinted>2012-03-06T14:15:32Z</cp:lastPrinted>
  <dcterms:modified xsi:type="dcterms:W3CDTF">2012-04-25T06:40:23Z</dcterms:modified>
  <cp:revision>189</cp:revision>
  <dc:subject/>
  <dc:title>Prezentace aplikace PowerPoint</dc:title>
</cp:coreProperties>
</file>