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1EFA-A525-45D6-97E5-77997EFEB0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74F6-C00F-42AB-A8D3-377529867B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1549-5C1F-453F-A18E-02E99EABC6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4941-58E8-4AFF-9102-8CC2A18B84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59C4-6620-485A-8DB7-493342FA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682F-4534-406B-A1D8-2E02FD1C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F69D-AC49-4C10-9037-0120AE07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66BC-4326-4774-B210-6A53AA75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1600-0585-49E1-964A-B0E6C530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29A8-AC97-43A0-AB08-B1602E74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ED53-E3F4-445D-8C5D-4A562313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3F0E-B71C-4C24-AF67-53F39E8D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AE82-BA05-4558-9FE6-42B53314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EE19-4263-4429-94B5-D7B27B3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F7A3-CD5E-426F-A5D1-840E7B58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88A9-E104-4530-A390-9E98A0C9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4E39-3B1E-4A19-A316-D6741576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4115-42A3-43C2-A2B8-F6D9897D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9545-E51B-49CB-87C1-6304174D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4D7B-6ED0-40F2-A896-22FCBFFA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87AC-AB3E-45B0-937D-D69194AE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573A-03D4-4D79-B25B-92724C5A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385C-043A-4C15-A4D0-E1AC2B86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7AFF-9D4C-41A5-9F52-6726698E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C5CF-7BB3-405A-AB59-1332FF6F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D0A7-3393-4652-84D3-FE9375B2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9E18-A413-43DF-9A7D-194AD02E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14F7-B12A-4B8D-A323-298219B5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D6D7-65ED-410E-BBD1-6907B9E27A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8CDF-9634-47C9-8C14-7304289E49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aniela.dolezalova@mf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7413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e5e5ff"/>
                </a:solidFill>
                <a:latin typeface="Garamond"/>
              </a:rPr>
              <a:t>AIFMD – Level II Measur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oporučení ESMA a návrh Evropské komise ohledně depozitář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Garamond"/>
              </a:rPr>
              <a:t>Next Steps in Asset Management 2012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Bratislava, 26. dubna 2012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Depozitáře (článek 21 AIFMD)</a:t>
            </a: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Vymezení finančních nástrojů, které by měly být v opatrování (custody) a úschově (safe-keeping) podle AIFMD a podle návrhu ESMA a EK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Chybí vymezení „financial instrument accounts“ (vlastnické účty vedené pro AIF podle AIFMD, nikoliv podle ESMA); co je vlastně „custody“ a „sub-custody“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Nejasný právní režim kolaterálů, zejména z hlediska odpovědnosti za ztrátu, možné změny charakteru aktiv (cenné papíry-kolaterál-konverze závazků-závěrečné vyrovnání v peněžních prostředcích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Budou depozitáře fungovat jako „garanční fond“ při centrálním clearingu kvůli excesivní odpovědnosti? (otázka právního režimu margins –plná segregace versus omnibus účty a sdílení ztráty „pro rata“ mezi klienty, právo CCP nakládat s kolaterálem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vidla úschovy „safe-keeping“ pro derivátové kontrakty – nereflektují nařízení EMIR (např. proč duplicita činnosti trade repositories?)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5e5ff"/>
                </a:solidFill>
                <a:latin typeface="Garamond"/>
              </a:rPr>
              <a:t>Závě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ísto nadávání na Brusel je třeba začít hrát aktivní roli při tvorbě EU legislativy, zapojit se do pracovních skupin ESMA a snažit se věcně korigovat nadměrnou a mnohdy nepromyšlenou regulac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ěkuji za pozornost</a:t>
            </a: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Kontakt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Daniela Doležalová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Ministerstvo financí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Letenská 15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118 10 Praha 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Tel. 257042957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daniela.dolezalova@mfcr.c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50:40Z</dcterms:created>
  <dc:creator>12207</dc:creator>
  <dc:description/>
  <dc:language>en-US</dc:language>
  <cp:lastModifiedBy>Jana Michalíková - AKAT</cp:lastModifiedBy>
  <dcterms:modified xsi:type="dcterms:W3CDTF">2012-04-24T12:48:14Z</dcterms:modified>
  <cp:revision>20</cp:revision>
  <dc:subject/>
  <dc:title>Snímek 1</dc:title>
</cp:coreProperties>
</file>