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5BF-D5B0-4FA6-AA1E-591E8DD9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506-FC59-41B8-A962-0630AE3B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FF0-03B3-4112-AD70-561DA46D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E03B-C956-4653-93E6-55104EB4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041D-2CDB-48C9-8BA8-54FF4113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BC57-9684-4050-86D5-7DAC37EF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0419-8560-430A-84A2-E3F00221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9217-E9B2-444D-B912-18005F3D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C234-D806-47EB-95E5-171B7255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B5F8-3D10-4828-B6E7-81110810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E646-1472-41B6-A75E-AD8ACFD7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94D-A00C-4C7D-943D-F2865319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904F-869D-405E-A8B7-2177ABE9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0759-B804-4772-84B8-B054E37E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AB53-4C94-4F98-A5D9-7E172E01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D3A1-811D-4F08-9C67-D007B69E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9BAA-7A20-4F84-B2C4-6A76C3A0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A1A-B188-4150-A16F-DBA05929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3AA-8F4C-48D3-A4A0-5984E378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A25B-D951-4EAA-AC82-437E4EB4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8E4-0033-4619-AAF8-FDBF159C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266-A8A0-4FDC-A5C3-CADA838C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2C9-FC32-4EB9-A198-D0E09F28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12C-6F50-4917-8795-42B2583B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0640-F0CA-4B13-A53F-2A83092D61BD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C785-9A3C-4434-8A73-7058E165D19F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92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aeaea"/>
                </a:solidFill>
                <a:latin typeface="Tahoma"/>
              </a:rPr>
              <a:t>Nové produktové možnosti ve světle návrhu nové zákonné úprav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508280"/>
            <a:ext cx="640080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n Šovar, MF Č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xt Steps in Asset Management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ratislava, 26.4.20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Výhrada prezent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sah zobrazený v této prezentaci, jakož i ústní projev ji doprovázejí, odráží individuální názory, hodnocení a přístup přednášejícího, jež se nemusí shodovat se stávajícími či potenciálními názory, hodnoceními nebo přístupem Ministerstva financí ani nepředstavují jeho oficiální pozic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Osnov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564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ekodifikace soukromého prá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eřejnost vs. neveřejnost investičních fondů (kritérium shromažďování, přípustní investoř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ávní formy neveřejných investičních fond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dávání akcií a podílových listů se zvláštními právy a vznik různých druhů podíl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emístění sídla a změna právního statu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alší otáz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řijetí podílových listů a akcií vydávaných investičními fondy na trh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Účinky samosprávnosti investičního fond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Capital cal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Děkuji za pozor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2:55:35Z</dcterms:created>
  <dc:creator>12885</dc:creator>
  <dc:description/>
  <dc:language>en-US</dc:language>
  <cp:lastModifiedBy>Jana Michalíková - AKAT</cp:lastModifiedBy>
  <dcterms:modified xsi:type="dcterms:W3CDTF">2012-04-24T12:57:04Z</dcterms:modified>
  <cp:revision>6</cp:revision>
  <dc:subject/>
  <dc:title>AIMFD – implementace v České republice</dc:title>
</cp:coreProperties>
</file>