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move the slide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C78-071A-4332-94B5-BA5295C01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ůst zamětnanců z 30/CESR na 100/E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počet rostě úměrně t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stou i ambice v obla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hl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formačních povinností (omnibus direk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tifikace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ingle Ruleboo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0 technickcých standardů (OTC, deriváty, AIF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evel 2 Advice – považovaná za vybalancovaný s ohledem na zásadní připomínky člen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K připravila návrh implementační direktivy, kterou představí co nevidě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F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depozitá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výpočet leverage, total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. země – guidline k MoU, aby se esma nemontova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blém – off-shore- GB/Kajmanské fondy, je otázka zda se zapoj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SMA chce zapojit IO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tázky důvěrnosti a on-site k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oney market fo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ustupuje se od kritéria kreditního ratingu státních dluhopis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RA upouštní od přeceňování rat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TS k remmuneration založené na 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467D-CA99-44EB-B1F4-3540EAAEA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CAEA-C857-4612-B836-85F34120D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D301-8E5C-4244-B6E0-217A0602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436B-FA95-46EC-AF74-EBD702540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12DD-D38F-4E63-BED1-B88C9D8D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496A-08F9-4A59-94A0-0FF9D261E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DE5E-7E7A-4687-9294-07B6C14B1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8AA9-8EB4-4B5D-B864-042224E2B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D66E-69D2-429A-9F4D-EB4BF89A1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9853-600A-4CEA-A66C-76A2395AF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65C9-4FA6-490A-B41E-828857542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304C-7605-41E8-BD9D-55E51741A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D60-4194-49BF-9000-F7EF2A0043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0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hyperlink" Target="mailto:alena.sebestova@cnb.cz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Spolupráce regulátorů v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f7c"/>
                </a:solidFill>
                <a:latin typeface="Arial Narrow"/>
              </a:rPr>
              <a:t>Aktuality ESMA</a:t>
            </a:r>
            <a:endParaRPr b="0" lang="en-US" sz="4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Sekce regulace a mezinárodní spolupráce na finančním trhu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Konference Next Steps in Asset Management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Bratislava 26. 4. 2012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62E-8682-4043-B6A2-A68A29E5FD6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Co je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SMA - European Securities and Markets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Nezávislá agentura EU (dříve CESR)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Spolupráce evropských regulátorů v oblasti kapitálového trhu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Organizac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Board of Supervisors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Internal committees and panel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Investment Standing committee pro fondovou oblast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Review panel, ESMA-Pol…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Management Board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Chair + 6 člen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Executive Director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Staff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Joint Committee of ESA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Průřezová témata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400-680E-44B7-AE3F-B5DE3FB1A2B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Formy práce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Lamfalussy proces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1 – Směrnice, Nařízení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Obecná stanoviska, technické rady Komisi EU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2 – Prováděcí směrnice, prováděcí nařízení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Větší role než CERS, návrhy prováděcích předpis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Regulatory technical standard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3 - Guidelines a Recommendations pro orgány dohledu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Princip - Comply or explain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4 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Questions/Answer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Operational task force (dohledová spolupráce)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ast track procedure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A42-ED37-49AE-8165-680D86E40A7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Aktuální témata z oblasti fondů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AIFM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evel 2 Advice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U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gulatory technical standar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Remuneration guidelines 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Venture fond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Social fund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Shadow banking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UCITS V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Money market funds – revize guide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PRIPS (packaged retail investment product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2DF5-ED30-4400-BD82-C94AB6C4B72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Sekce regulace a mezinárodní spolupráce na finačním trhu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2"/>
              </a:rPr>
              <a:t>alena.sebestova@cnb.cz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Jana Michalíková - AKAT</cp:lastModifiedBy>
  <dcterms:modified xsi:type="dcterms:W3CDTF">2012-04-25T13:06:52Z</dcterms:modified>
  <cp:revision>61</cp:revision>
  <dc:subject/>
  <dc:title>Český název přednášky/akce</dc:title>
</cp:coreProperties>
</file>