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0DA-CFD6-409F-BA38-B8F4E3AD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7E6-C4E8-4260-A349-F86A449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19A-3C61-45CA-8DD4-E3AB218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A38-07CF-4572-A638-EA5E6131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0075-CBC8-4ADD-98FE-0A76FFC7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14C-673D-405E-BF0C-E69A186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E8E-F3D7-45FE-B1AD-D436DA2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5F7E-FA9D-49B4-BE66-13B7A6E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3BB-2471-4A91-9C7E-CDE59E8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415-693F-4C54-BE7C-91FE7C3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DBC0-66E0-4B32-AF79-44CFC1F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555-B75D-47C7-AEF3-3980C8A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FA6-6466-4E49-B3B7-83F9CAB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CB3E-3178-4D49-A054-D4F1EB7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BC7-7DBD-4E99-BE9F-216F4DC0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DACF-70FC-4B9A-85DA-E8CEDEFD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43EF-3558-46F5-9548-957ECA81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BFA-8BFB-4573-A762-EA8EE00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CA1-33E9-4421-8E69-21E80D5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7CE-0684-4669-B3CC-90CE42A3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701-1D2A-422C-AF1B-2BDEB5E9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D66-468C-4783-89F0-89504C8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393-1D69-4784-A29B-4D59FA5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1FD-BFCC-469D-99FD-C27D3E89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89E5-FCB1-45AA-A184-B1B27F64D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F98-5D25-4144-9001-367CA85A2804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tomas.ambra@nbs.sk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Tahoma"/>
              </a:rPr>
              <a:t>Výzvy nových smerníc týkajúce sa depozitárov</a:t>
            </a:r>
            <a:br>
              <a:rPr sz="40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POŽIADAVKY NA DEPOZITÁROV PO SMERNICI 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laterál a SP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ustody“ režim sa vzťahuje aj na finančné nástroje poskytnuté alebo prijaté ako kolaterál, ak k nim nezaniklo alebo vzniklo vlastnícke právo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a režimy sa vzťahujú na „look-through“ bá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o znamená aj vo vzťahu k právnickým osobám alebo k finančným štruktúram priamo alebo nepriamo kontrolovaným fond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bjektívna zodpovednosť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stratu finančných nástrojov v custody (alebo v sub-custody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finančného nástro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sa zistí, že vlastnícke právo fondu zaniklo alebo nikdy neexistova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bol fond definitívne pozbavený vlastníckeho prá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vlastnícke právo stále existuje, ale nemožno finančný nástroj priamo alebo nepriamo scudzi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prevodu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u zodpovednosť za finančné nástroje v sub-custody možno kontraktuálne previesť na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evod zodpovednosti písomnou zmluvou medzi depozitárom a sub-custodianom, ktorá umožňuje správcovi resp. fondu žiadať náhradu v prípade straty finančných nástroj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ísomná zmluva medzi depozitárom a správcom výslovne umožňuje prevod zodpovednosti a ustanovuje objektívny dôvod na takýto prev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liberácie depozitára z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sa môže z objektívnej zodpovednosti liberovať, ak vie preukázať, 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vznikla v dôsledku externej udalos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vznik nemohol ovplyvniť 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dôsledkom nebolo napriek všetkému odôvodnenému úsiliu možné zabráni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Zodpovednosť depozitára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evel 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9640" y="2492280"/>
            <a:ext cx="1692360" cy="4597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Str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916360" y="1989000"/>
            <a:ext cx="1657080" cy="91692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zodpovedn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79280" y="3068640"/>
            <a:ext cx="2232000" cy="21016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0000"/>
                </a:solidFill>
                <a:uFillTx/>
                <a:latin typeface="Tahoma"/>
              </a:rPr>
              <a:t>Finančný nástroj v custody sa považuje za stratený a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ž neexistuje alebo nikdy neexistoval (frau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tále existuje, ale AIF natrvalo stratil k nemu vlastnícke práv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AIF má vlastnícke právo, ale nemôže finančný nástroj trvalo scudziť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03640" y="2924280"/>
            <a:ext cx="1152360" cy="5806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onkajšia udalos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843280" y="5157720"/>
            <a:ext cx="1800000" cy="1554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ásledkom ktorej by sa napriek všetkej primeranej snahe nedalo vyhnú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132000" y="3933720"/>
            <a:ext cx="1297080" cy="824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ožnosť primerane ovplyvni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3564000" y="3645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564000" y="4869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564000" y="2637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724360" y="2133720"/>
            <a:ext cx="1582920" cy="137160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dalosť vedúca k strate nebola výsledkom konania alebo opomenutia depozitára alebo jedného z sub-custodianov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724360" y="3933720"/>
            <a:ext cx="1582920" cy="82404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pozitár nemohol zabrániť vzniku udalosti v rámci primeranej snah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724360" y="5300640"/>
            <a:ext cx="1582920" cy="118908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priek rozsiahlej a dôslednej odbornej starostlivosti depozitár nemohol zabrániť stra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356000" y="2708280"/>
            <a:ext cx="1368360" cy="50472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4427640" y="4365360"/>
            <a:ext cx="1296720" cy="7308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4643280" y="5877000"/>
            <a:ext cx="1081080" cy="144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ntrolné funkcie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5 kontrolných funkcií (totožných s UCITS smernico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vydávania a vyplácania podiel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oceňovania a výpočtu NA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lnenie (a kontrola) pokynov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dodržiavania obvyklých lehôt protipln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rozdeľovania výnosov (dividend) z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vá kontrolná funkcia – monitoring cash-flow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5 štandardných kontrolných funkcií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presnenie obsahu týchto funkcií vychádzajúcich z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načne v zhode so súčasným znením rekodifikovaného ZK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otvrdenie princíp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onu kontrolných činností na ex-post bá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ontroly správnosti procesov a postupov správcu (nie kontrola výsledk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– upresnenie postupov depozitára pri výkone kontrolných činnost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onitoring cash flow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overuje, či sú zabezpečené postupy sledovania cash flow AIF, t.j. č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Hotovosť je uložená na účtoch AIF /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istujú postupy rekoncilácie cash fl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dentifikácia významných transakci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view a overovanie konzistencie medzi svojimi záznamami a záznamami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avidlá činnosti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nesmie vykonávať aktivity ohľadne AIF / AIFM, ktoré by mohli vytvárať konflikt záujmov medzi AIF, jeho investormi, AIFM a depozitárom, iba ak má depozitár funkčne a hierarchicky oddelený výkon depozitárskych činností a je ošetrený konflikt záujm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tíva v custody nesmú byť používané depozitárom (re-hypotekácia) bez predchádzajúceho súhlasu AIF /AIF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ávrh smernice UCITS V sa očakáva v lete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pre UCITS fondy by mal byť založený na regulácii depozitárov podľa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eďže UCITS sú vnímané ako retailový produkt, niektoré ustanovenia budú prísnejšie / menej flexibil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enší rozsah prípustných osô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emožnosť kontraktuálne previesť objektívnu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smernice týkajúce sa depozitá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mernica 2011/61/EÚ –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tenzívna regulácia depozitárov alternatívnych investičných fond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oplňujúce Nariadenie E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aložené na technickej pomoci E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a konzultuje na úrovni Európskeho parlamentu a R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a novelizácia smernice UCITS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inimálne tak striktný režim ako pri AIFM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1"/>
              </a:rPr>
              <a:t>tomas.ambra@nbs.s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tel.: 02 5787 336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Regulácia depozitárov podľa smernice AIFMD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iršie spektrum prípustných osôb na výkon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finančné nástroje v rámci „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sub-custo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ontrolné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ozšírenie a spresnenie súčasného rozsahu oproti smernici UCITS I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epozitárska úschov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šetky aktíva alternatívneho investičného fondu musia byť zverené do depozitárskej úscho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 sa delí na dva reži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vlastníctva a vedenie záznamov („record-keeping“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závislosti od režimu depozitárskej úschovy sa odvodzuje zodpovednosť depozitára za zverený majetok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ozsah - všetky finančné nástro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môžu byť registrované na účte u depozitára a možno ich držať v priamo alebo nepriamo v mene depozitá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materializované prevoditeľné cenné papiere, nástroje peňažného trhu a cenný papiere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nie sú registrované priamo u emitenta alebo jeho agenta (registrára alebo transfer agen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 ďalej všetky finančné nástroje, ktoré môžu byť fyzicky dodané depozitáro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istinné cenné papi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Špecifické povinnosti depozitára pri „custody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é nástroje musia byť registrované na segregovanom účte u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Záznamy a účty depozitára musia korešpondovať a aktuálnym stavom majetku AIF zvereného depozitárovi do úscho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vykonávať rekoncilácie medzi internými účtami a záznamami depozitára a akéhokoľvek sub-custodiana, ktorému bola custody majetku zveren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vinnosť vykonávať odbornú starostlivosť ohľadne finančných nástrojov držaných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monitorovať a vyhodnocovať riziko custody v rámci celého custody reťaz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prijať organizačné opatrenia, aby sa minimalizovalo riziko straty finančných nástrojov v dôsledku podvodu, nesprávnych administratívnych postupov, zlej registrácie alebo opomenutia povinností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overiť vlastnícke práva fondu k predmetným finančným nástrojom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verovanie vlastníctva a vedenie záznamov („record-keeping)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muto režimu depozitárskej úschovy podliehajú všetky aktíva fondu, ktoré nespadajú pod 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vinnosť overovať vlastnícke práva fondu nad týmito aktívami a viesť o nich zázna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sa vykoná na základe dokumentov od správcu a ak je to možné aj od tretích strá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vinnosti depozitára pri „record-keeping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a je povinný zabezpečiť prístup depozitára k potrebným dokumentom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zabezpečiť, aby depozitár mal k dispozícii dostatočné a spoľahlivé informácie na overenie vlastníckych práv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byť schopný kedykoľvek poskytnúť aktuálny zoznam majetku fondu v vrátane nominálny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zabezpečiť, a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tíva nemohli byť prevedené, vymenené alebo dodané bez jeho súhlasu ale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l okamžitý prístup k údajom o každej transakcii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verovanie správneho registrovanie predmetných aktív a porovnávanie vlastných záznamov o majetku fondu a záznamov správ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ub-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legovať možno nielen custody, ale aj overovaciu a záznamovú povin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y dôvod na deleg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tarostlivosť pri výbere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pertíza a zdroje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a dohľad nad sub-custodian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egregácia aktív u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bežný monitoring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43Z</dcterms:modified>
  <cp:revision>55</cp:revision>
  <dc:subject/>
  <dc:title>Slide 1</dc:title>
</cp:coreProperties>
</file>