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C1FF-CCC9-4F36-A6D0-ACA0E1F9E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B8EF-C1CC-4DB2-B7D2-6CB7F1E83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EDEE-CB7F-441B-A0B9-541D12604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56F0E-6AB4-4D2D-A811-4BE0A536B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0018-A7BB-43F3-A7CA-54D8FA184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304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0" y="134100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092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304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4800" y="3840120"/>
            <a:ext cx="27824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2BD3-C160-4275-8E1F-9E58AA758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1203-1AE8-49CF-A729-D2372320E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00FD-F206-4D31-AE2D-66A23D40E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6012-73E4-4FEE-A30A-FCDD0976D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AB97-9D27-48B1-8F11-1CEE06D07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4012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C403-66D9-47EE-97E6-38C7F23DF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341000"/>
            <a:ext cx="4217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40120"/>
            <a:ext cx="864216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42EE-1CE2-4F01-8207-5E76A6AC1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C:\Users\Fadrique\AppData\Local\Temp\wzfdd0\ISP_Linea Orizzontale\ISP_lineaOrizz.jpg"/>
          <p:cNvPicPr/>
          <p:nvPr/>
        </p:nvPicPr>
        <p:blipFill>
          <a:blip r:embed="rId2"/>
          <a:stretch/>
        </p:blipFill>
        <p:spPr>
          <a:xfrm>
            <a:off x="209520" y="6076800"/>
            <a:ext cx="8639280" cy="16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066920" y="6308280"/>
            <a:ext cx="1035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604C-BCC9-4ABD-97E0-97FF1CAB226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Obrázok 8" descr="VUB_asset man.bmp"/>
          <p:cNvPicPr/>
          <p:nvPr/>
        </p:nvPicPr>
        <p:blipFill>
          <a:blip r:embed="rId3"/>
          <a:stretch/>
        </p:blipFill>
        <p:spPr>
          <a:xfrm>
            <a:off x="324000" y="6294600"/>
            <a:ext cx="2533680" cy="42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Obrázok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8" descr="VUB_asset man.bmp"/>
          <p:cNvPicPr/>
          <p:nvPr/>
        </p:nvPicPr>
        <p:blipFill>
          <a:blip r:embed="rId3"/>
          <a:stretch/>
        </p:blipFill>
        <p:spPr>
          <a:xfrm>
            <a:off x="276120" y="500040"/>
            <a:ext cx="4726080" cy="785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ff66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ff66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 Unicode MS"/>
              <a:buChar char="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ká je budúcnosť kolektívneho investovania na Slovensku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50560" y="4707000"/>
            <a:ext cx="75214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arian Matušovič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seda predstavenstva, VÚB Asset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Jasná Nízke Tatry, 5.</a:t>
            </a:r>
            <a:r>
              <a:rPr b="0" lang="sk-SK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ovember, 20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C836-308A-41C5-9BCC-AFDF53BEE2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sledky priesku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280" y="928800"/>
            <a:ext cx="8607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3./ Počet registrovaných správcovských spoločností v Európe sa v horizonte</a:t>
            </a:r>
            <a:br>
              <a:rPr sz="1600"/>
            </a:b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     5 rokov zo súčasného počtu približne 2500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2"/>
          <p:cNvGraphicFramePr/>
          <p:nvPr/>
        </p:nvGraphicFramePr>
        <p:xfrm>
          <a:off x="6500880" y="1714680"/>
          <a:ext cx="928800" cy="92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0880" y="1714680"/>
                    <a:ext cx="9288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3"/>
          <p:cNvGraphicFramePr/>
          <p:nvPr/>
        </p:nvGraphicFramePr>
        <p:xfrm>
          <a:off x="7072200" y="3643200"/>
          <a:ext cx="11430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72200" y="3643200"/>
                    <a:ext cx="1143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BlokTextu 8"/>
          <p:cNvSpPr/>
          <p:nvPr/>
        </p:nvSpPr>
        <p:spPr>
          <a:xfrm>
            <a:off x="71280" y="3344760"/>
            <a:ext cx="771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4./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očet domácich správcovských spoločností na Slovensku sa v horizonte 5 rokov zo súčasného počtu 8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71680" y="1571760"/>
          <a:ext cx="8001000" cy="1643040"/>
        </p:xfrm>
        <a:graphic>
          <a:graphicData uri="http://schemas.openxmlformats.org/drawingml/2006/table">
            <a:tbl>
              <a:tblPr/>
              <a:tblGrid>
                <a:gridCol w="7072200"/>
                <a:gridCol w="928800"/>
              </a:tblGrid>
              <a:tr h="3380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222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stane približne rovna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222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lesne, ale zostane nad hranicou 2000 správcovských     spoločnost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222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lesne pod hranicu 2000 správcovských spoločnost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384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71680" y="4071960"/>
          <a:ext cx="8001000" cy="1714320"/>
        </p:xfrm>
        <a:graphic>
          <a:graphicData uri="http://schemas.openxmlformats.org/drawingml/2006/table">
            <a:tbl>
              <a:tblPr/>
              <a:tblGrid>
                <a:gridCol w="7072200"/>
                <a:gridCol w="928800"/>
              </a:tblGrid>
              <a:tr h="352440">
                <a:tc>
                  <a:txBody>
                    <a:bodyPr lIns="72000" rIns="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36600">
                <a:tc>
                  <a:txBody>
                    <a:bodyPr lIns="72000" rIns="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stane rovna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36600">
                <a:tc>
                  <a:txBody>
                    <a:bodyPr lIns="72000" rIns="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stane aspoň 5 správcovských spoloč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36240">
                <a:tc>
                  <a:txBody>
                    <a:bodyPr lIns="72000" rIns="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stane menej ako 4 správcovské spoloč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52440">
                <a:tc>
                  <a:txBody>
                    <a:bodyPr lIns="72000" rIns="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9510-6210-429A-BCEF-DDA02519727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142920"/>
            <a:ext cx="8642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sledky priesku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2"/>
          <p:cNvGraphicFramePr/>
          <p:nvPr/>
        </p:nvGraphicFramePr>
        <p:xfrm>
          <a:off x="7643880" y="300024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3880" y="300024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3"/>
          <p:cNvSpPr/>
          <p:nvPr/>
        </p:nvSpPr>
        <p:spPr>
          <a:xfrm>
            <a:off x="71280" y="785880"/>
            <a:ext cx="8607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5./ Ktoré z uvedených trendov v oblasti KI budú s najväčšou pravdepodobnosťou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odľa Vášho názoru v blízkej budúcnosti realizované na Slovensk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85840" y="1428840"/>
          <a:ext cx="8501040" cy="4572000"/>
        </p:xfrm>
        <a:graphic>
          <a:graphicData uri="http://schemas.openxmlformats.org/drawingml/2006/table">
            <a:tbl>
              <a:tblPr/>
              <a:tblGrid>
                <a:gridCol w="7572240"/>
                <a:gridCol w="928800"/>
              </a:tblGrid>
              <a:tr h="2268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ácia novej legislatívy snažiaca sa zvýšiť ochranu investorov a prísnejšej regulá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,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ácia programov na  zvýšenie finančnej gramotnosti obyvateľstva zabezpečovaná štát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60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ie rizikovej averzie investor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446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ý záujem o fondy, ktoré zabezpečia 100% ochranu vloženého kapitálu a predvídateľnú, hoci aj nižšiu výkonnos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,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2228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ý záujem o fondy s „optimálnym rozložením investícií“, bez zabezpečenia 100% ochrany  vloženého kapit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3488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pné znižovanie dominancie peňažných fondov v prospech fondov z vyšším rizikovým profilom (dlhopisové, zmiešané, akciové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,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1112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pné zvyšovanie investícií do fondov spravovaných zahraničnými správcovskými spoločnosťa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,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60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šenie vstupných poplat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ižovanie správcovských poplatk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vedenie správcovských poplatkov závislých od dosiahnutej  výkon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60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írenie nových sporiacich schém a zvýšená podpora ich preda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,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5396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ie záujmu o investície do fondov a sporiace schémy z dôvodu nedôvery obyvateľstva voči schopnosti  štátu zabezpečiť primerané dôchodky, resp. potreby spori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íženie záujmu investorov o fondy v prospech ETF, dlhopisov, akcií a iných C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60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výšenie distribúcie fondov prostredníctvom interne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174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pné znižovanie dominancie distribúcie fondov prostredníctvom pobočiek bá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2716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é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9069-D83E-4BEC-BF10-80E4CAF736D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71280"/>
            <a:ext cx="864216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sledky priesku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2920" y="713880"/>
            <a:ext cx="86788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6./ Akú výšku podielu dosiahnu podľa Vášho názoru  na Slovensku v horizonte 5 rokov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nvestície do fondov od inštitucionálnych investorov  voči retailovým investorom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odhad súčasného pomeru v SR je cca 10:90 v prospech retailových investorov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ričom v Európe bol na konci roka 2008 pomer 34:66 v prospech inšt. klientov)?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BlokTextu 6"/>
          <p:cNvSpPr/>
          <p:nvPr/>
        </p:nvSpPr>
        <p:spPr>
          <a:xfrm>
            <a:off x="142920" y="3357720"/>
            <a:ext cx="8643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7./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Očakávate v horizonte 5 rokov na Slovensku zvýšenie objemu fondov spravovaných zahraničnými správcovskými spoločnosťami vo vlastníctve slovenských investorov (ku koncu roka 2009 bol tento pomer  17,2 % : 82,8 % v prospech domácich správcov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71680" y="1785960"/>
          <a:ext cx="8072280" cy="1500120"/>
        </p:xfrm>
        <a:graphic>
          <a:graphicData uri="http://schemas.openxmlformats.org/drawingml/2006/table">
            <a:tbl>
              <a:tblPr/>
              <a:tblGrid>
                <a:gridCol w="7081560"/>
                <a:gridCol w="990720"/>
              </a:tblGrid>
              <a:tr h="3078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 zostane približne 90:10 v prospech retailových investor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,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55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 bude približne   75:25 v prospech retailových investorov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34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 bude približne   60:40 v prospech retailových investor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55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mer sa vymení v prospech inštitucionálnych investor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078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71680" y="4500720"/>
          <a:ext cx="8072280" cy="1500120"/>
        </p:xfrm>
        <a:graphic>
          <a:graphicData uri="http://schemas.openxmlformats.org/drawingml/2006/table">
            <a:tbl>
              <a:tblPr/>
              <a:tblGrid>
                <a:gridCol w="7081560"/>
                <a:gridCol w="990720"/>
              </a:tblGrid>
              <a:tr h="3078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čakávam zmenu, t.j. pomer ostane približne 20: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52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čakávam pomer približne 30: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37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čakávam pomer približne 40: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52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čakávam, že zahraniční správcovia budú spravovať viac ako domá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081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45E4-5FDD-4F11-8909-EA10DC94448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sledky priesku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7643880" y="221472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3880" y="22147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"/>
          <p:cNvGraphicFramePr/>
          <p:nvPr/>
        </p:nvGraphicFramePr>
        <p:xfrm>
          <a:off x="7859880" y="243036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59880" y="243036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4"/>
          <p:cNvGraphicFramePr/>
          <p:nvPr/>
        </p:nvGraphicFramePr>
        <p:xfrm>
          <a:off x="7715160" y="4357800"/>
          <a:ext cx="82872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15160" y="4357800"/>
                    <a:ext cx="8287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BlokTextu 10"/>
          <p:cNvSpPr/>
          <p:nvPr/>
        </p:nvSpPr>
        <p:spPr>
          <a:xfrm>
            <a:off x="71280" y="341640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9./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mplementácia UCITS IV bude podľa Vášho názoru pre slovenské správcovské spoločnosti, ktoré sú súčasťou zahraničných finančných skupín znamenať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BlokTextu 11"/>
          <p:cNvSpPr/>
          <p:nvPr/>
        </p:nvSpPr>
        <p:spPr>
          <a:xfrm>
            <a:off x="142920" y="812880"/>
            <a:ext cx="857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8./ S akou mierou pravdepodobnosti očakávate, že medzinárodné finančné skupiny môžu vytvoriť na Slovensku kompetenčné centrum na podporu fondového biznisu v CEE, resp.  na Slovensku centralizovať aspoň časť súvisiacich činnost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28760" y="1643040"/>
          <a:ext cx="8286480" cy="1641600"/>
        </p:xfrm>
        <a:graphic>
          <a:graphicData uri="http://schemas.openxmlformats.org/drawingml/2006/table">
            <a:tbl>
              <a:tblPr/>
              <a:tblGrid>
                <a:gridCol w="7269120"/>
                <a:gridCol w="1017360"/>
              </a:tblGrid>
              <a:tr h="3081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lím si, že Slovensko by mohlo mať ambíciu stať sa centrom fondového biznisu v C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520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čakávam, že niekoľko finančných skupín kompetenčné centrum vytvor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37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čakávam, že aspoň jedna finančná skupina kompetenčné centrum vytvor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,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363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važujem to za nemožné a skôr očakávam postupný zánik domácich správcovských spoločnost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081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28760" y="4003560"/>
          <a:ext cx="8286480" cy="1997280"/>
        </p:xfrm>
        <a:graphic>
          <a:graphicData uri="http://schemas.openxmlformats.org/drawingml/2006/table">
            <a:tbl>
              <a:tblPr/>
              <a:tblGrid>
                <a:gridCol w="7269120"/>
                <a:gridCol w="1017360"/>
              </a:tblGrid>
              <a:tr h="3081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račovanie spolupráce zhruba v dnešnom rozsah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64908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znamné rozšírenie outsourcingu vybraných činností do zahraničných centrál najmä v oblastiach, ako vývoj produktov, portfólio manažment, risk manažment, koordinácia v oblasti podpory predaja a marketingu a podob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955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ý obchodný model so zameraním na master - feeder štruktú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4363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ý obchodný model so zameraním na cezhraničné zlučovanie fondov s postupným ukončením činnosti slovenskej správcovskej spoločn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081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936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9360" rIns="108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0DFC-353A-41A4-852F-62A3E72FF0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1800" indent="-182520">
              <a:spcBef>
                <a:spcPts val="1001"/>
              </a:spcBef>
              <a:spcAft>
                <a:spcPts val="1800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Špecifiká odvetvia správy aktív na Slovens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spcBef>
                <a:spcPts val="400"/>
              </a:spcBef>
              <a:spcAft>
                <a:spcPts val="1800"/>
              </a:spcAft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hľad trhovej kapitalizácie vybraných krajín C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spcBef>
                <a:spcPts val="400"/>
              </a:spcBef>
              <a:spcAft>
                <a:spcPts val="1800"/>
              </a:spcAft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tegorizácia fond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spcBef>
                <a:spcPts val="400"/>
              </a:spcBef>
              <a:spcAft>
                <a:spcPts val="1800"/>
              </a:spcAft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brané ukazovatele správcovských spoločno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spcBef>
                <a:spcPts val="400"/>
              </a:spcBef>
              <a:spcAft>
                <a:spcPts val="1800"/>
              </a:spcAft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diel AUM fondov spravovaný domácimi a zahraničnými správc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spcBef>
                <a:spcPts val="1001"/>
              </a:spcBef>
              <a:spcAft>
                <a:spcPts val="1800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ýsledky priesk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07B1-9355-44D5-B29E-1675FC83660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920" y="1411200"/>
            <a:ext cx="864216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1800" indent="-358560">
              <a:spcBef>
                <a:spcPts val="1125"/>
              </a:spcBef>
              <a:spcAft>
                <a:spcPts val="1800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erozvinutý a nelikvidný domáci kapitálový tr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58560">
              <a:spcBef>
                <a:spcPts val="1125"/>
              </a:spcBef>
              <a:spcAft>
                <a:spcPts val="1800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ominujúci retailový segment s distribúciou prostredníctvom veľkých bán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58560">
              <a:spcBef>
                <a:spcPts val="1125"/>
              </a:spcBef>
              <a:spcAft>
                <a:spcPts val="1800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onzervatívne produktové portfól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58560">
              <a:spcBef>
                <a:spcPts val="1125"/>
              </a:spcBef>
              <a:spcAft>
                <a:spcPts val="1800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islatívny rámec nepodporujúci ďalší rast tohto sekto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58560">
              <a:spcBef>
                <a:spcPts val="1125"/>
              </a:spcBef>
              <a:spcAft>
                <a:spcPts val="1800"/>
              </a:spcAft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stup Slovenska do Európskej menovej únie od 1.1. 200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Špecifiká odvetvia správy aktív na Slovensku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ehľad trhovej kapitalizácie vybraných krajín CEE            k 31.12. 2008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9B63-A20D-4587-8E09-3700BEBB3D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7040" y="1643040"/>
          <a:ext cx="8529840" cy="2786040"/>
        </p:xfrm>
        <a:graphic>
          <a:graphicData uri="http://schemas.openxmlformats.org/drawingml/2006/table">
            <a:tbl>
              <a:tblPr/>
              <a:tblGrid>
                <a:gridCol w="2814840"/>
                <a:gridCol w="1071360"/>
                <a:gridCol w="857520"/>
                <a:gridCol w="1071360"/>
                <a:gridCol w="857160"/>
                <a:gridCol w="1000440"/>
                <a:gridCol w="857160"/>
              </a:tblGrid>
              <a:tr h="5572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742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ven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742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e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742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ďar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742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ľ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742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vin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7421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ec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7421"/>
                    </a:solidFill>
                  </a:tcPr>
                </a:tc>
              </a:tr>
              <a:tr h="557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hová kapitalizácia trhu dlhopisov (EUR mld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hová kapitalizácia trhu dlhopisov (% z HD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hová kapitalizácia trhu akcií (EUR mld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hová kapitalizácia trhu akcií     (% z HD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BlokTextu 8"/>
          <p:cNvSpPr/>
          <p:nvPr/>
        </p:nvSpPr>
        <p:spPr>
          <a:xfrm>
            <a:off x="214200" y="5572080"/>
            <a:ext cx="45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FAMA Fact Book, 7th edition, September 200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ategorizácia fondov k 30.9.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2638-6D7D-441C-BE44-63FBBFE9E3A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BlokTextu 5"/>
          <p:cNvSpPr/>
          <p:nvPr/>
        </p:nvSpPr>
        <p:spPr>
          <a:xfrm>
            <a:off x="285840" y="5429160"/>
            <a:ext cx="828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vlastné spracovanie z údajov dostupných v Efama Statistical Release N° 39, November 2009; Efama International Statistical Release, Januar 2010, SASS mesačný report 09/200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8" descr=""/>
          <p:cNvPicPr/>
          <p:nvPr/>
        </p:nvPicPr>
        <p:blipFill>
          <a:blip r:embed="rId1"/>
          <a:stretch/>
        </p:blipFill>
        <p:spPr>
          <a:xfrm>
            <a:off x="353880" y="853920"/>
            <a:ext cx="83692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70920"/>
            <a:ext cx="864216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brané ukazovatele správcovských spoločností v oblasti nákladov a výnoso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37E5-0B1B-4942-9A9C-0A7ED53107C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85840" y="1763640"/>
          <a:ext cx="8501040" cy="3308400"/>
        </p:xfrm>
        <a:graphic>
          <a:graphicData uri="http://schemas.openxmlformats.org/drawingml/2006/table">
            <a:tbl>
              <a:tblPr/>
              <a:tblGrid>
                <a:gridCol w="2928960"/>
                <a:gridCol w="1214280"/>
                <a:gridCol w="1000080"/>
                <a:gridCol w="2365560"/>
                <a:gridCol w="992160"/>
              </a:tblGrid>
              <a:tr h="8654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ven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ápadná Európa         "menší správcovia"    (AUM cca 10 mld. 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ápadná Európa celko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80680">
                <a:tc>
                  <a:txBody>
                    <a:bodyPr lIns="7200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emerná výška AUM       (EUR mld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7200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iel AUM pre retailových klientov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7200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/I Ratio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7200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emerný počet zamestnanc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BlokTextu 5"/>
          <p:cNvSpPr/>
          <p:nvPr/>
        </p:nvSpPr>
        <p:spPr>
          <a:xfrm>
            <a:off x="214200" y="5715000"/>
            <a:ext cx="835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t Management Survey 2009, Mc Kinsey&amp;Company, September 200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diel AUM fondov spravovaný domácimi a zahraničnými správcam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92DB-C7E1-4CA6-B0A9-907A5B0EF37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BlokTextu 6"/>
          <p:cNvSpPr/>
          <p:nvPr/>
        </p:nvSpPr>
        <p:spPr>
          <a:xfrm>
            <a:off x="361080" y="5621400"/>
            <a:ext cx="528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Zdroj: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vlastné spracovanie údajov dostupných zo štatistík S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hart 1" descr=""/>
          <p:cNvPicPr/>
          <p:nvPr/>
        </p:nvPicPr>
        <p:blipFill>
          <a:blip r:embed="rId1"/>
          <a:stretch/>
        </p:blipFill>
        <p:spPr>
          <a:xfrm>
            <a:off x="420840" y="1066680"/>
            <a:ext cx="80899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sledky priesku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C734-BC43-4BC6-B262-9150456EBAA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50920" y="1214280"/>
            <a:ext cx="8642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1800" indent="-18252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alizácia prieskumu: august 201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lavný cieľ: zistiť očakávané trendy v produktovom portfóliu, v rozsahu poskytovaných služieb, segmentácii klientov, ako aj pri úprave obchodných modelov slovenských správcovských spoločností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Štatistická metóda získavania údajov: štandardizovaný dotazní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spondenti: členovia predstavenstiev správcovských spoločností a dôchodkových správcovských spoločností, senior manažéri bánk (oddelenia treasury, depozitára, vývoja a distribúcie investičných produktov, privátneho bankovníctva),  odborníci z NBS a SAV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252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čet dotazníkov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74 zaslaný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2800" indent="-16992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8  vyplnených s  najväčším  zastúpením   manažérov správcovských spoločností (39,5 %) a  manažérov bánk (34,2 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Zástupný symbol čísla snímky 3"/>
          <p:cNvSpPr/>
          <p:nvPr/>
        </p:nvSpPr>
        <p:spPr>
          <a:xfrm>
            <a:off x="4067280" y="6308640"/>
            <a:ext cx="1035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AA46-E1CD-4948-82A1-CF4F14B8BD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sledky prieskum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7640" y="928440"/>
            <a:ext cx="860724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1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./  V 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orizonte 5 rokov hodnotíte  vyhliadky vývoja sektora KI v Európe v oblasti rastu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1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UM (UCITS aj non-UCITS fondy) ako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1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1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6429240" y="4357800"/>
          <a:ext cx="986040" cy="9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240" y="4357800"/>
                    <a:ext cx="9860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BlokTextu 7"/>
          <p:cNvSpPr/>
          <p:nvPr/>
        </p:nvSpPr>
        <p:spPr>
          <a:xfrm>
            <a:off x="71280" y="331308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2./</a:t>
            </a:r>
            <a:r>
              <a:rPr b="1" lang="sk-SK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Očakávate, že v horizonte 5 rokov sa objem fondov spravovaný slovenskými a zahraničnými správcovskými spoločnosťami vo vlastníctve retailových a inštitucionálnych klientov na Slovensku zvýš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71680" y="1643040"/>
          <a:ext cx="8072280" cy="1500120"/>
        </p:xfrm>
        <a:graphic>
          <a:graphicData uri="http://schemas.openxmlformats.org/drawingml/2006/table">
            <a:tbl>
              <a:tblPr/>
              <a:tblGrid>
                <a:gridCol w="7081560"/>
                <a:gridCol w="990720"/>
              </a:tblGrid>
              <a:tr h="43452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borné  (rast AUM viac ako 80%, napr. v rokoch 2003-2007 dosiahol rast AUM 84,1%)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642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ľmi dobré (rast AUM od 40% až 8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628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ré (rast AUM od 10% do 4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642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é (rast AUM menej ako 10%, prípadne pokl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27432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7920" rIns="108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71680" y="4214880"/>
          <a:ext cx="8072280" cy="1571400"/>
        </p:xfrm>
        <a:graphic>
          <a:graphicData uri="http://schemas.openxmlformats.org/drawingml/2006/table">
            <a:tbl>
              <a:tblPr/>
              <a:tblGrid>
                <a:gridCol w="7081560"/>
                <a:gridCol w="990720"/>
              </a:tblGrid>
              <a:tr h="3236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ne o 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9360">
                      <a:solidFill>
                        <a:srgbClr val="f37421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0816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 40% až 8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0780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 10% až 4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0816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st bude maximálne 10%, prípadne objem fondov pokles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703c"/>
                    </a:solidFill>
                  </a:tcPr>
                </a:tc>
              </a:tr>
              <a:tr h="323640">
                <a:tc>
                  <a:txBody>
                    <a:bodyPr lIns="72000" rIns="7920" tIns="79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jadrujem 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920">
                    <a:lnL w="9360">
                      <a:solidFill>
                        <a:srgbClr val="f37421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noFill/>
                  </a:tcPr>
                </a:tc>
                <a:tc>
                  <a:txBody>
                    <a:bodyPr lIns="7920" rIns="108000" tIns="79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10800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f37421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37421"/>
                      </a:solidFill>
                    </a:lnB>
                    <a:solidFill>
                      <a:srgbClr val="00703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08:47:48Z</dcterms:created>
  <dc:creator>Romsauerova</dc:creator>
  <dc:description/>
  <dc:language>en-US</dc:language>
  <cp:lastModifiedBy> </cp:lastModifiedBy>
  <dcterms:modified xsi:type="dcterms:W3CDTF">2010-10-29T14:34:19Z</dcterms:modified>
  <cp:revision>89</cp:revision>
  <dc:subject/>
  <dc:title>Snímka 1</dc:title>
</cp:coreProperties>
</file>