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15.wmf" ContentType="image/x-wmf"/>
  <Override PartName="/ppt/media/image7.png" ContentType="image/png"/>
  <Override PartName="/ppt/media/image34.jpeg" ContentType="image/jpeg"/>
  <Override PartName="/ppt/media/image12.png" ContentType="image/png"/>
  <Override PartName="/ppt/media/image16.wmf" ContentType="image/x-wmf"/>
  <Override PartName="/ppt/media/image8.png" ContentType="image/png"/>
  <Override PartName="/ppt/media/image11.jpeg" ContentType="image/jpeg"/>
  <Override PartName="/ppt/media/image5.png" ContentType="image/png"/>
  <Override PartName="/ppt/media/image13.wmf" ContentType="image/x-wmf"/>
  <Override PartName="/ppt/media/image30.wmf" ContentType="image/x-wmf"/>
  <Override PartName="/ppt/media/image33.jpeg" ContentType="image/jpeg"/>
  <Override PartName="/ppt/media/image10.png" ContentType="image/png"/>
  <Override PartName="/ppt/media/image28.wmf" ContentType="image/x-wmf"/>
  <Override PartName="/ppt/media/image9.png" ContentType="image/png"/>
  <Override PartName="/ppt/media/image31.jpeg" ContentType="image/jpeg"/>
  <Override PartName="/ppt/media/image2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4.png" ContentType="image/png"/>
  <Override PartName="/ppt/media/image18.wmf" ContentType="image/x-wmf"/>
  <Override PartName="/ppt/media/image32.jpeg" ContentType="image/jpeg"/>
  <Override PartName="/ppt/media/image20.wmf" ContentType="image/x-wmf"/>
  <Override PartName="/ppt/media/image19.jpeg" ContentType="image/jpeg"/>
  <Override PartName="/ppt/media/image29.wmf" ContentType="image/x-wmf"/>
  <Override PartName="/ppt/media/image1.png" ContentType="image/png"/>
  <Override PartName="/ppt/media/image21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5280" y="357624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1232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772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016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9528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772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016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452520"/>
            <a:ext cx="8229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1232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5280" y="357624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1232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772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016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9528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772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016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452520"/>
            <a:ext cx="8229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1232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95280" y="357624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1232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7772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60160" y="162828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9528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7772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60160" y="3576240"/>
            <a:ext cx="264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452520"/>
            <a:ext cx="8229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12320" y="357624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12320" y="1628280"/>
            <a:ext cx="40158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95280" y="3576240"/>
            <a:ext cx="8229600" cy="17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2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31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828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360" y="6303960"/>
            <a:ext cx="23112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sk-SK" sz="800" spc="-1" strike="noStrike">
                <a:solidFill>
                  <a:srgbClr val="000000"/>
                </a:solidFill>
                <a:latin typeface="Times New Roman"/>
              </a:rPr>
              <a:t>Názov prezentácie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94E1-2C9E-4E15-BB39-6B46A48DC7D1}" type="datetime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Times New Roman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E8F2AFC8-A820-47C5-8F24-E1BDB7B158A2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6"/>
          <p:cNvSpPr/>
          <p:nvPr/>
        </p:nvSpPr>
        <p:spPr>
          <a:xfrm>
            <a:off x="552600" y="1222200"/>
            <a:ext cx="7989840" cy="0"/>
          </a:xfrm>
          <a:prstGeom prst="line">
            <a:avLst/>
          </a:prstGeom>
          <a:ln w="50760">
            <a:solidFill>
              <a:srgbClr val="0836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2"/>
          <p:cNvSpPr/>
          <p:nvPr/>
        </p:nvSpPr>
        <p:spPr>
          <a:xfrm>
            <a:off x="4824360" y="6021360"/>
            <a:ext cx="2195640" cy="593640"/>
          </a:xfrm>
          <a:prstGeom prst="rect">
            <a:avLst/>
          </a:prstGeom>
          <a:solidFill>
            <a:srgbClr val="cc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7" descr="Erste_Asset_rgb"/>
          <p:cNvPicPr/>
          <p:nvPr/>
        </p:nvPicPr>
        <p:blipFill>
          <a:blip r:embed="rId2"/>
          <a:stretch/>
        </p:blipFill>
        <p:spPr>
          <a:xfrm>
            <a:off x="5003640" y="6237360"/>
            <a:ext cx="1440000" cy="301680"/>
          </a:xfrm>
          <a:prstGeom prst="rect">
            <a:avLst/>
          </a:prstGeom>
          <a:ln w="0">
            <a:noFill/>
          </a:ln>
        </p:spPr>
      </p:pic>
      <p:sp>
        <p:nvSpPr>
          <p:cNvPr id="6" name="Text Box 22"/>
          <p:cNvSpPr/>
          <p:nvPr/>
        </p:nvSpPr>
        <p:spPr>
          <a:xfrm>
            <a:off x="6948360" y="6021360"/>
            <a:ext cx="2195640" cy="593640"/>
          </a:xfrm>
          <a:prstGeom prst="rect">
            <a:avLst/>
          </a:prstGeom>
          <a:solidFill>
            <a:srgbClr val="cc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29" descr="AM SLSP cmyk kopie"/>
          <p:cNvPicPr/>
          <p:nvPr/>
        </p:nvPicPr>
        <p:blipFill>
          <a:blip r:embed="rId3"/>
          <a:stretch/>
        </p:blipFill>
        <p:spPr>
          <a:xfrm>
            <a:off x="6659640" y="6221520"/>
            <a:ext cx="2347920" cy="303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0" descr="Erste_Asset_rgb"/>
          <p:cNvPicPr/>
          <p:nvPr/>
        </p:nvPicPr>
        <p:blipFill>
          <a:blip r:embed="rId2"/>
          <a:stretch/>
        </p:blipFill>
        <p:spPr>
          <a:xfrm>
            <a:off x="468360" y="6093000"/>
            <a:ext cx="2698560" cy="564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AM SLSP cmyk kopie"/>
          <p:cNvPicPr/>
          <p:nvPr/>
        </p:nvPicPr>
        <p:blipFill>
          <a:blip r:embed="rId3"/>
          <a:stretch/>
        </p:blipFill>
        <p:spPr>
          <a:xfrm>
            <a:off x="5435640" y="6237360"/>
            <a:ext cx="3282840" cy="423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2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31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828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6"/>
          <p:cNvSpPr/>
          <p:nvPr/>
        </p:nvSpPr>
        <p:spPr>
          <a:xfrm>
            <a:off x="552600" y="1222200"/>
            <a:ext cx="7989840" cy="0"/>
          </a:xfrm>
          <a:prstGeom prst="line">
            <a:avLst/>
          </a:prstGeom>
          <a:ln w="50760">
            <a:solidFill>
              <a:srgbClr val="0836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4824360" y="6021360"/>
            <a:ext cx="2195640" cy="593640"/>
          </a:xfrm>
          <a:prstGeom prst="rect">
            <a:avLst/>
          </a:prstGeom>
          <a:solidFill>
            <a:srgbClr val="cc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7" descr="Erste_Asset_rgb"/>
          <p:cNvPicPr/>
          <p:nvPr/>
        </p:nvPicPr>
        <p:blipFill>
          <a:blip r:embed="rId2"/>
          <a:stretch/>
        </p:blipFill>
        <p:spPr>
          <a:xfrm>
            <a:off x="5003640" y="6237360"/>
            <a:ext cx="1440000" cy="3016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2"/>
          <p:cNvSpPr/>
          <p:nvPr/>
        </p:nvSpPr>
        <p:spPr>
          <a:xfrm>
            <a:off x="6948360" y="6021360"/>
            <a:ext cx="2195640" cy="593640"/>
          </a:xfrm>
          <a:prstGeom prst="rect">
            <a:avLst/>
          </a:prstGeom>
          <a:solidFill>
            <a:srgbClr val="cc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9" descr="AM SLSP cmyk kopie"/>
          <p:cNvPicPr/>
          <p:nvPr/>
        </p:nvPicPr>
        <p:blipFill>
          <a:blip r:embed="rId3"/>
          <a:stretch/>
        </p:blipFill>
        <p:spPr>
          <a:xfrm>
            <a:off x="6659640" y="6221520"/>
            <a:ext cx="2347920" cy="3031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395280" y="1628280"/>
            <a:ext cx="82296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2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31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828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1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2"/>
          </p:nvPr>
        </p:nvSpPr>
        <p:spPr>
          <a:xfrm>
            <a:off x="46800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Times New Roman"/>
              </a:rPr>
              <a:t>Dlhopisové fondy – budú sa opakovať úspechy poslednej doby?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26A7-90DD-49F7-8BD9-051B4BEA8448}" type="datetime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Times New Roman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8621D26A-63FF-4CBE-9175-8B58197A4A75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3320" y="1125360"/>
            <a:ext cx="8140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63680" y="3429000"/>
            <a:ext cx="82072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6. November 2010 – Nízke Tatry, Jasn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eter Her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enior portfolio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sset Management Slovenskej sporiteľn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práv. spol.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D195-8CDF-40E9-9486-A9394B4D6CB2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17BB4484-73EA-4BF9-9D97-1B26CC801BF7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2. Makroekonomická situácia – stručný prehľ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1244520" y="1989000"/>
            <a:ext cx="6207120" cy="37436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3"/>
          <p:cNvSpPr/>
          <p:nvPr/>
        </p:nvSpPr>
        <p:spPr>
          <a:xfrm>
            <a:off x="539640" y="1341360"/>
            <a:ext cx="799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9280" indent="-179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ízke miery inflácie vo svete momentálne podporujú hlavné centrálne banky sveta (ECB, FED a BoJ) v pokračovaní silne expanzívnej menovej politik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799"/>
              </a:spcBef>
              <a:tabLst>
                <a:tab algn="l" pos="0"/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bdĺžnik 8"/>
          <p:cNvSpPr/>
          <p:nvPr/>
        </p:nvSpPr>
        <p:spPr>
          <a:xfrm>
            <a:off x="1194840" y="5661000"/>
            <a:ext cx="114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droj: Bloombe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5BAA-6354-4D8B-AAD5-0A6CDFC1F644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A9FF51E7-544E-4CB1-8D8C-B3A57B6D5BE0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3. Dlhopisové trhy – prehľ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51847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merické a nemecké výnosy štátnych dlhopisov na historických minimách, strhujúca rally počas roku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dex finančných podmienok v USA sa stále zlepšuje – dosiahnutie neutrálnej úrovne (už nepredstavuje negatívny efek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Volatilita a strmosť kriviek sa postupne normalizujú, iba kreditné prirážky ostávajú výrazne vyššie (viac ako 1 ST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ízke inflačné očakávania investorov, nízke využitie výrobných faktor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oblémy dlhového financovania v krajinách eurozóny – hlavné ekonomiky vs. okrajo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výšenie atraktivity vybraných EM trhov – vyšší hosp. rast - rastúca kreditná kval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\\shq404\MPPAMSLSP\OBRAZKY\j0399221.jpg"/>
          <p:cNvPicPr/>
          <p:nvPr/>
        </p:nvPicPr>
        <p:blipFill>
          <a:blip r:embed="rId1"/>
          <a:stretch/>
        </p:blipFill>
        <p:spPr>
          <a:xfrm>
            <a:off x="5435640" y="1884240"/>
            <a:ext cx="3705120" cy="37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D727-5111-4C94-9B4D-CD9C7143D0B1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6E36D86B-4757-4687-9CF5-69BF705E8A89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3. Dlhopisové trhy – prehľ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1912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malenie ekonomiky, nízka jadrová inflácia, kľúčové sadzby na minimách a riziková averzia investorov vytvárali podporu pre hlavné dlhopisové trhy v USA a Nemeck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výnosy dosiahli historické minim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"/>
          <p:cNvPicPr/>
          <p:nvPr/>
        </p:nvPicPr>
        <p:blipFill>
          <a:blip r:embed="rId1"/>
          <a:stretch/>
        </p:blipFill>
        <p:spPr>
          <a:xfrm>
            <a:off x="1733400" y="2205000"/>
            <a:ext cx="5934240" cy="3791160"/>
          </a:xfrm>
          <a:prstGeom prst="rect">
            <a:avLst/>
          </a:prstGeom>
          <a:ln w="0">
            <a:noFill/>
          </a:ln>
        </p:spPr>
      </p:pic>
      <p:sp>
        <p:nvSpPr>
          <p:cNvPr id="187" name="Obdĺžnik 8"/>
          <p:cNvSpPr/>
          <p:nvPr/>
        </p:nvSpPr>
        <p:spPr>
          <a:xfrm>
            <a:off x="1686960" y="5919840"/>
            <a:ext cx="114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droj: Bloombe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BlokTextu 6"/>
          <p:cNvSpPr/>
          <p:nvPr/>
        </p:nvSpPr>
        <p:spPr>
          <a:xfrm>
            <a:off x="2310480" y="2133720"/>
            <a:ext cx="342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Vývoj 10Y výnosu USA a GER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57C0-30B5-4924-97E7-8A4FDB64A7CB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9FC4EFF3-4972-49B6-A580-B004D9EF169D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3. Dlhopisové trhy – prehľ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30240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adzby FEDu na minime a pravdepodobne budú dlhší čas níz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spekt ďalšieho kola kvantitatívneho uvoľňovania – pozitívne pre dlhopis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ízko-inflačné prostredie z pohľadu F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Ekonomický vývoj zaostáva za potenciálom – output g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egatívom US štátnych dlhopisov je veľmi nízky nominálny výn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3551400" y="1413000"/>
            <a:ext cx="5052960" cy="3240000"/>
          </a:xfrm>
          <a:prstGeom prst="rect">
            <a:avLst/>
          </a:prstGeom>
          <a:ln w="0">
            <a:noFill/>
          </a:ln>
        </p:spPr>
      </p:pic>
      <p:sp>
        <p:nvSpPr>
          <p:cNvPr id="193" name="Obdĺžnik 8"/>
          <p:cNvSpPr/>
          <p:nvPr/>
        </p:nvSpPr>
        <p:spPr>
          <a:xfrm>
            <a:off x="3499920" y="4581360"/>
            <a:ext cx="114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droj: Bloombe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F696-3278-41A7-831D-E19FBF0FC7CF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DA5A5B59-9CC0-427D-870B-498B917FFCA5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3. Dlhopisové trhy – prehľ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3564000" y="1413000"/>
            <a:ext cx="5040360" cy="3240000"/>
          </a:xfrm>
          <a:prstGeom prst="rect">
            <a:avLst/>
          </a:prstGeom>
          <a:ln w="0">
            <a:noFill/>
          </a:ln>
        </p:spPr>
      </p:pic>
      <p:sp>
        <p:nvSpPr>
          <p:cNvPr id="197" name="Obdĺžnik 8"/>
          <p:cNvSpPr/>
          <p:nvPr/>
        </p:nvSpPr>
        <p:spPr>
          <a:xfrm>
            <a:off x="3499920" y="4581360"/>
            <a:ext cx="114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droj: Bloombe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468360" y="1341360"/>
            <a:ext cx="31669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adzby ECB ostávajú veľmi níz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pomalenie ekonomického vývoja vo viacerých krajinách eurozó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Útek ku kvalite (Nemecko vs. okrajové ekonomiky PIIG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ízka inflácia vytvára podporu dlhopis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egatívom pre dlhopisy EÚ je pomerne vysoká aktivita štátnych emitentov na primárnom trhu – nadmerná ponuka dlhopis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1557-0BC7-470C-82C0-085408EAA513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897912F7-77DA-42A8-B56C-5995CF8CF7D5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6018120" cy="41054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3. Dlhopisové trhy – prehľ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dĺžnik 8"/>
          <p:cNvSpPr/>
          <p:nvPr/>
        </p:nvSpPr>
        <p:spPr>
          <a:xfrm>
            <a:off x="1699920" y="5919840"/>
            <a:ext cx="114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droj: Bloombe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BlokTextu 7"/>
          <p:cNvSpPr/>
          <p:nvPr/>
        </p:nvSpPr>
        <p:spPr>
          <a:xfrm>
            <a:off x="1807920" y="1793880"/>
            <a:ext cx="274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Vývoj ceny 5Y CDS (v bp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519120" y="1197000"/>
            <a:ext cx="8229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tek ku kvalite, jadrové krajiny vs. okrajové krajiny (PIIGS) Eurozó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pora zo strany mechanizmu EFSF, vysoký stav likvidity na tr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ál 9"/>
          <p:cNvSpPr/>
          <p:nvPr/>
        </p:nvSpPr>
        <p:spPr>
          <a:xfrm>
            <a:off x="6732720" y="2781360"/>
            <a:ext cx="718920" cy="172728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AE86-D150-47FE-8D88-A50BE9CEEED3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D3A61282-2D1E-4B80-968E-48D46F0EA35F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3. Dlhopisové trhy – prehľ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3635280" y="1413000"/>
            <a:ext cx="5040360" cy="3311280"/>
          </a:xfrm>
          <a:prstGeom prst="rect">
            <a:avLst/>
          </a:prstGeom>
          <a:ln w="0">
            <a:noFill/>
          </a:ln>
        </p:spPr>
      </p:pic>
      <p:sp>
        <p:nvSpPr>
          <p:cNvPr id="210" name="Obdĺžnik 8"/>
          <p:cNvSpPr/>
          <p:nvPr/>
        </p:nvSpPr>
        <p:spPr>
          <a:xfrm>
            <a:off x="3571560" y="4653000"/>
            <a:ext cx="114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droj: Bloombe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468360" y="1413000"/>
            <a:ext cx="31669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máce výnosy štátnych dlhopisov zaznamenali pokles od začiatku roka a kopírovali tak dianie na benchmarkovom nemeckom trh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plyv zvýšenej nervozity investorov (problémy Grécka a krajín PIIGS) sa zatiaľ preniesol na SK dlhopisy len v obmedzenej mi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aďalej domáce dlhopisy patria v rámci regiónu k tým najvyhľadávanejším a dopyt hlavne od zahraničných hráčov drží výnosy dlhších splatností nižš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F81E-B29D-47FF-8A2F-0FF98281C075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1568E8D0-CD63-40CF-8421-BA40CD9F3052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3. Dlhopisové trhy – prehľ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5" descr=""/>
          <p:cNvPicPr/>
          <p:nvPr/>
        </p:nvPicPr>
        <p:blipFill>
          <a:blip r:embed="rId1"/>
          <a:stretch/>
        </p:blipFill>
        <p:spPr>
          <a:xfrm>
            <a:off x="3635280" y="1413000"/>
            <a:ext cx="4983120" cy="3311280"/>
          </a:xfrm>
          <a:prstGeom prst="rect">
            <a:avLst/>
          </a:prstGeom>
          <a:ln w="0">
            <a:noFill/>
          </a:ln>
        </p:spPr>
      </p:pic>
      <p:sp>
        <p:nvSpPr>
          <p:cNvPr id="215" name="Obdĺžnik 8"/>
          <p:cNvSpPr/>
          <p:nvPr/>
        </p:nvSpPr>
        <p:spPr>
          <a:xfrm>
            <a:off x="3560400" y="4653000"/>
            <a:ext cx="114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droj: Bloombe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468360" y="1413000"/>
            <a:ext cx="30956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17928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ýnosy slovenských štátnych dlhopisov sa  obchodujú s veľmi zaujímavou kreditnou prirážkou voči nemecký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tabLst>
                <a:tab algn="l" pos="0"/>
                <a:tab algn="l" pos="79866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ôvodom je jednak nižšia likvidita domáceho trhu (likviditná prémia) ako aj nižšia ochota investorov podstupovať riziko (aktuálny rating Slovenska A+ vs. Nemecka AA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tabLst>
                <a:tab algn="l" pos="0"/>
                <a:tab algn="l" pos="79866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rátkodobé oslabenie záujmu investorov o dodatočný výnos a obavy o vývoj fiškálneho deficitu európskych krajín môžu znamenať volatilný vývoj kreditnej priráž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tabLst>
                <a:tab algn="l" pos="0"/>
                <a:tab algn="l" pos="7986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5207-E021-4574-98F0-385F3EADEB9A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20AD99A3-20C4-4347-8777-058CEE560946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5910120" cy="40338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3. Dlhopisové trhy – prehľ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519120" y="119700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 pohľadu cien kontraktov CDS patrí Slovensko k relatívne bezpečnejším emitentom v rámci regiónu ale aj v porovnaní s okrajovými krajinami EM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bdĺžnik 8"/>
          <p:cNvSpPr/>
          <p:nvPr/>
        </p:nvSpPr>
        <p:spPr>
          <a:xfrm>
            <a:off x="1626840" y="5950080"/>
            <a:ext cx="114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droj: Bloombe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BlokTextu 8"/>
          <p:cNvSpPr/>
          <p:nvPr/>
        </p:nvSpPr>
        <p:spPr>
          <a:xfrm>
            <a:off x="1736280" y="1866960"/>
            <a:ext cx="274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Vývoj ceny 5Y CDS (v bp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7406-4C7F-4820-926F-5432EDDB56E6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EB265E2F-6380-4EB9-8240-2C5C165E8A6A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3. Dlhopisové trhy – prehľ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5" descr=""/>
          <p:cNvPicPr/>
          <p:nvPr/>
        </p:nvPicPr>
        <p:blipFill>
          <a:blip r:embed="rId1"/>
          <a:stretch/>
        </p:blipFill>
        <p:spPr>
          <a:xfrm>
            <a:off x="3564000" y="1409760"/>
            <a:ext cx="5108400" cy="33145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468360" y="1413000"/>
            <a:ext cx="309564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17928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rajiny CEE regiónu napredujú v oblasti zotavovania ich ekonomí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ľúčové ukazovatele zadĺženosti naznačujú ďalšiu potrebu fiškálnej konsolidácie = riziká pre ďalší vývoj dlhopis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ebytky stavu likvidity a následné kapitálové toky pomáhajú lokálnym menám región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Centrálne banky v regióne ostávajú vo fáze expanzívnej menovej politi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tabLst>
                <a:tab algn="l" pos="0"/>
                <a:tab algn="l" pos="7986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bdĺžnik 8"/>
          <p:cNvSpPr/>
          <p:nvPr/>
        </p:nvSpPr>
        <p:spPr>
          <a:xfrm>
            <a:off x="3499920" y="4653000"/>
            <a:ext cx="114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droj: Bloombe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A99B-190F-428C-8916-6761B8D4F745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74C887AC-184E-4FA4-9A24-C3B2E05CCFBA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Obsah prezentác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1. Prehľad hlavných tém dlhopisových trhov v roku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 Makroekonomická situácia – stručný prehľ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177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Rast HDP a ekonomické zotavova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177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ládny dlh krají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177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flačný vývoj a Menová politika C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3. Dlhopisové trhy – prehľ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177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 a Nemec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177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 a CEE regi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177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rporátny segment a 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4. Záver a zhodnote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FF4C-1E30-4C2B-82CF-63C9D801C412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F32351CE-65A7-45BC-A907-1553E918A720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3. Dlhopisové trhy – prehľ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1521000" y="2060640"/>
            <a:ext cx="6146640" cy="3889440"/>
          </a:xfrm>
          <a:prstGeom prst="rect">
            <a:avLst/>
          </a:prstGeom>
          <a:ln w="0">
            <a:noFill/>
          </a:ln>
        </p:spPr>
      </p:pic>
      <p:sp>
        <p:nvSpPr>
          <p:cNvPr id="231" name="Obdĺžnik 8"/>
          <p:cNvSpPr/>
          <p:nvPr/>
        </p:nvSpPr>
        <p:spPr>
          <a:xfrm>
            <a:off x="1483920" y="5919840"/>
            <a:ext cx="114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droj: Bloombe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519120" y="126828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ospekt posilňovania mien regiónu robí aktíva atraktívnejšími (CZK a PL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Konvergenčný príbeh čiastočne stratil na sile, politické riziká (HUF a 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BlokTextu 8"/>
          <p:cNvSpPr/>
          <p:nvPr/>
        </p:nvSpPr>
        <p:spPr>
          <a:xfrm>
            <a:off x="2430360" y="1989000"/>
            <a:ext cx="44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Vývoj vybraných mien regiónu CEE (normaliz.1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D8C4-B599-4284-9947-8449AECA1210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57A2AF2F-030B-49D5-BC71-7FFF48B9283D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3. Dlhopisové trhy – prehľ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5715000" cy="3456000"/>
          </a:xfrm>
          <a:prstGeom prst="rect">
            <a:avLst/>
          </a:prstGeom>
          <a:ln w="0">
            <a:noFill/>
          </a:ln>
        </p:spPr>
      </p:pic>
      <p:sp>
        <p:nvSpPr>
          <p:cNvPr id="237" name="Obdĺžnik 8"/>
          <p:cNvSpPr/>
          <p:nvPr/>
        </p:nvSpPr>
        <p:spPr>
          <a:xfrm>
            <a:off x="1626840" y="5805360"/>
            <a:ext cx="114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droj: Bloombe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519120" y="126828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reditné prirážky korporátnych emitentov významne poklesli od začiatku roka, avšak z dlhodobého pohľadu stále dosahujú vysoké úrov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ýznamný rozdiel v prirážkach najmä medzi investičným stupňom ratingového hodnotenia a pásmom High-yield – investičné obmedze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3C85-DFF8-47F4-8CE4-B099B12B974F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4F382908-4378-4840-9799-B42B9E0E9E99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3. Dlhopisové trhy – prehľ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1797120" y="2421000"/>
            <a:ext cx="5511600" cy="354024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3"/>
          <p:cNvSpPr/>
          <p:nvPr/>
        </p:nvSpPr>
        <p:spPr>
          <a:xfrm>
            <a:off x="519120" y="1197000"/>
            <a:ext cx="8229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79866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ospodársky rast EM krajín sa nachádza na vyššej úrovni ako rast vyspelých krají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79866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Z toho dôvodu úverová schopnosť týchto emitentov sa zvyšuj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79866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edpokladáme teda, že atraktivita kreditných prirážok EM krajín by mala pokračovať. Najmä pokiaľ ide o dlhopisové investície denominované v hlavných mená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7986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bdĺžnik 8"/>
          <p:cNvSpPr/>
          <p:nvPr/>
        </p:nvSpPr>
        <p:spPr>
          <a:xfrm>
            <a:off x="1760040" y="5950080"/>
            <a:ext cx="114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droj: Bloombe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4697-CEFF-45E9-968F-1A2126063C7B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99FF79B9-A7CB-4BBF-9122-1F07747B39FF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4. Záver a zhodnoten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309708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Bude 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lhopisový inve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môcť opäť tešiť 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aujímavý výn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Eufória aleb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ytriezveni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\\shq404\MPPAMSLSP\OBRAZKY\j0431739.jpg"/>
          <p:cNvPicPr/>
          <p:nvPr/>
        </p:nvPicPr>
        <p:blipFill>
          <a:blip r:embed="rId1"/>
          <a:stretch/>
        </p:blipFill>
        <p:spPr>
          <a:xfrm>
            <a:off x="3419640" y="1413000"/>
            <a:ext cx="4537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1568-7E9E-4463-86E1-C47EB19381A6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9EB5AECF-8470-4756-94C6-259B44B643A4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4. Záver a zhodnoten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9000"/>
          </a:bodyPr>
          <a:p>
            <a:pPr marL="33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átkodobý výhľad: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2" descr="\\shq404\MPPAMSLSP\OBRAZKY\j0390109.jpg"/>
          <p:cNvPicPr/>
          <p:nvPr/>
        </p:nvPicPr>
        <p:blipFill>
          <a:blip r:embed="rId1"/>
          <a:stretch/>
        </p:blipFill>
        <p:spPr>
          <a:xfrm>
            <a:off x="395280" y="2082960"/>
            <a:ext cx="1181160" cy="8413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\\shq404\MPPAMSLSP\OBRAZKY\j0390108.jpg"/>
          <p:cNvPicPr/>
          <p:nvPr/>
        </p:nvPicPr>
        <p:blipFill>
          <a:blip r:embed="rId2"/>
          <a:stretch/>
        </p:blipFill>
        <p:spPr>
          <a:xfrm>
            <a:off x="395280" y="3492360"/>
            <a:ext cx="1224000" cy="8733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\\shq404\MPPAMSLSP\OBRAZKY\j0390110.jpg"/>
          <p:cNvPicPr/>
          <p:nvPr/>
        </p:nvPicPr>
        <p:blipFill>
          <a:blip r:embed="rId3"/>
          <a:stretch/>
        </p:blipFill>
        <p:spPr>
          <a:xfrm>
            <a:off x="395280" y="4838760"/>
            <a:ext cx="1252440" cy="893880"/>
          </a:xfrm>
          <a:prstGeom prst="rect">
            <a:avLst/>
          </a:prstGeom>
          <a:ln w="0">
            <a:noFill/>
          </a:ln>
        </p:spPr>
      </p:pic>
      <p:sp>
        <p:nvSpPr>
          <p:cNvPr id="254" name="BlokTextu 8"/>
          <p:cNvSpPr/>
          <p:nvPr/>
        </p:nvSpPr>
        <p:spPr>
          <a:xfrm>
            <a:off x="2277000" y="1916280"/>
            <a:ext cx="4548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 u="sng">
                <a:solidFill>
                  <a:srgbClr val="000000"/>
                </a:solidFill>
                <a:uFillTx/>
                <a:latin typeface="Arial"/>
              </a:rPr>
              <a:t>Nadváženi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High-Yield segment korporátnych dlhopisov v EU aj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vestment-grade korporátne dlhopisy v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Emerging markets štátne dlhopisy v hlavných mená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Emerging markets korporátne dlhopis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BlokTextu 9"/>
          <p:cNvSpPr/>
          <p:nvPr/>
        </p:nvSpPr>
        <p:spPr>
          <a:xfrm>
            <a:off x="2296440" y="3357720"/>
            <a:ext cx="1671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 u="sng">
                <a:solidFill>
                  <a:srgbClr val="000000"/>
                </a:solidFill>
                <a:uFillTx/>
                <a:latin typeface="Arial"/>
              </a:rPr>
              <a:t>Neutráln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EU štátne dlhopis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SK štátne dlhopis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BlokTextu 10"/>
          <p:cNvSpPr/>
          <p:nvPr/>
        </p:nvSpPr>
        <p:spPr>
          <a:xfrm>
            <a:off x="2274120" y="4508640"/>
            <a:ext cx="39542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 u="sng">
                <a:solidFill>
                  <a:srgbClr val="000000"/>
                </a:solidFill>
                <a:uFillTx/>
                <a:latin typeface="Arial"/>
              </a:rPr>
              <a:t>Podváženi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US štátne dlhopis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US hypotekárne dlhopis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vestment-grade korporátne dlhopisy v 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CEE štátne dlhopis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Emerging markets dlhopisy v lokálnych mená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868D-9C63-42AA-A259-FB4EC31CD721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DABE5F4F-13F9-41B0-948D-455936208134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ĎAKUJEM ZA POZORNOS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E357-68B5-477E-9147-95216EC59343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AC461353-6F3C-47CE-B6AF-BB5ECB7F5339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1. Prehľad hlavných tém dlhopisových trhov v roku 20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Obdĺžnik 5" descr=""/>
          <p:cNvPicPr/>
          <p:nvPr/>
        </p:nvPicPr>
        <p:blipFill>
          <a:blip r:embed="rId1"/>
          <a:stretch/>
        </p:blipFill>
        <p:spPr>
          <a:xfrm>
            <a:off x="-42840" y="1298520"/>
            <a:ext cx="6638760" cy="1322280"/>
          </a:xfrm>
          <a:prstGeom prst="rect">
            <a:avLst/>
          </a:prstGeom>
          <a:ln w="0">
            <a:noFill/>
          </a:ln>
        </p:spPr>
      </p:pic>
      <p:pic>
        <p:nvPicPr>
          <p:cNvPr id="136" name="Obdĺžnik 6" descr=""/>
          <p:cNvPicPr/>
          <p:nvPr/>
        </p:nvPicPr>
        <p:blipFill>
          <a:blip r:embed="rId2"/>
          <a:stretch/>
        </p:blipFill>
        <p:spPr>
          <a:xfrm>
            <a:off x="5059440" y="3017880"/>
            <a:ext cx="2133360" cy="706320"/>
          </a:xfrm>
          <a:prstGeom prst="rect">
            <a:avLst/>
          </a:prstGeom>
          <a:ln w="0">
            <a:noFill/>
          </a:ln>
        </p:spPr>
      </p:pic>
      <p:pic>
        <p:nvPicPr>
          <p:cNvPr id="137" name="Obdĺžnik 7" descr=""/>
          <p:cNvPicPr/>
          <p:nvPr/>
        </p:nvPicPr>
        <p:blipFill>
          <a:blip r:embed="rId3"/>
          <a:stretch/>
        </p:blipFill>
        <p:spPr>
          <a:xfrm>
            <a:off x="6827760" y="2835360"/>
            <a:ext cx="2432160" cy="2260440"/>
          </a:xfrm>
          <a:prstGeom prst="rect">
            <a:avLst/>
          </a:prstGeom>
          <a:ln w="0">
            <a:noFill/>
          </a:ln>
        </p:spPr>
      </p:pic>
      <p:pic>
        <p:nvPicPr>
          <p:cNvPr id="138" name="Obdĺžnik 8" descr=""/>
          <p:cNvPicPr/>
          <p:nvPr/>
        </p:nvPicPr>
        <p:blipFill>
          <a:blip r:embed="rId4"/>
          <a:stretch/>
        </p:blipFill>
        <p:spPr>
          <a:xfrm>
            <a:off x="6297480" y="1835280"/>
            <a:ext cx="2938680" cy="1536480"/>
          </a:xfrm>
          <a:prstGeom prst="rect">
            <a:avLst/>
          </a:prstGeom>
          <a:ln w="0">
            <a:noFill/>
          </a:ln>
        </p:spPr>
      </p:pic>
      <p:pic>
        <p:nvPicPr>
          <p:cNvPr id="139" name="Obdĺžnik 9" descr=""/>
          <p:cNvPicPr/>
          <p:nvPr/>
        </p:nvPicPr>
        <p:blipFill>
          <a:blip r:embed="rId5"/>
          <a:stretch/>
        </p:blipFill>
        <p:spPr>
          <a:xfrm>
            <a:off x="5052960" y="3754440"/>
            <a:ext cx="2292480" cy="1494000"/>
          </a:xfrm>
          <a:prstGeom prst="rect">
            <a:avLst/>
          </a:prstGeom>
          <a:ln w="0">
            <a:noFill/>
          </a:ln>
        </p:spPr>
      </p:pic>
      <p:pic>
        <p:nvPicPr>
          <p:cNvPr id="140" name="Obdĺžnik 10" descr=""/>
          <p:cNvPicPr/>
          <p:nvPr/>
        </p:nvPicPr>
        <p:blipFill>
          <a:blip r:embed="rId6"/>
          <a:stretch/>
        </p:blipFill>
        <p:spPr>
          <a:xfrm>
            <a:off x="6576840" y="4694400"/>
            <a:ext cx="2775240" cy="11030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\\shq404\MPPAMSLSP\OBRAZKY\CG5F3.jpg"/>
          <p:cNvPicPr/>
          <p:nvPr/>
        </p:nvPicPr>
        <p:blipFill>
          <a:blip r:embed="rId7"/>
          <a:stretch/>
        </p:blipFill>
        <p:spPr>
          <a:xfrm>
            <a:off x="395280" y="2924280"/>
            <a:ext cx="4537080" cy="2592360"/>
          </a:xfrm>
          <a:prstGeom prst="rect">
            <a:avLst/>
          </a:prstGeom>
          <a:ln w="0">
            <a:noFill/>
          </a:ln>
        </p:spPr>
      </p:pic>
      <p:pic>
        <p:nvPicPr>
          <p:cNvPr id="142" name="Obdĺžnik 12" descr=""/>
          <p:cNvPicPr/>
          <p:nvPr/>
        </p:nvPicPr>
        <p:blipFill>
          <a:blip r:embed="rId8"/>
          <a:stretch/>
        </p:blipFill>
        <p:spPr>
          <a:xfrm>
            <a:off x="4827600" y="4316400"/>
            <a:ext cx="22683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79DD-0213-4C44-90DD-3D81B725A40C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53BBC63A-68A2-44A6-8A7A-F0DF3FA6803B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1. Prehľad hlavných tém dlhopisových trhov v roku 20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4240" indent="-1742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pomalenie dynamiky rastu globálnej ekonom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ostredie nízkej inflácie a nízkeho využívania výrobných faktor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Relatívne vysoký stav likvidity v ekonomikách a na trho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Rastúce vládne dlhy vo vyspelých krajinách (problémy krajín PII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ilne expanzívne menové politiky centrálnych bánk vo svete – rekordne nízke úrokové sadzb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avádzanie reštriktívnych opatrení v oblasti fiškálnej politi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trmý sklon výnosových kriviek a rekordne nízke dlhodobé výnosy na hlavných dlhopisových trho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ýznamné zvýšenie aktivity a objemov korporátnych emitentov na primárnom tr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X-ové intervencie a potreba menovej depreciácie na hlavných trho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32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74D4-3652-4B79-8112-7B04414BAE7D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A110A4C4-8DC3-4BC0-8ACA-6AB5DA2F41B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2. Makroekonomická situácia – stručný prehľ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7040" indent="-1670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2010 kladný rast po výraznej reces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040" indent="-1670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Obavy z recesie sa pomaly znižujú, ale ďalší vývoj bude dlhodobé zotavovanie sa ekonomí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040" indent="-1670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vojrýchlostný rast svetových ekonomík – DM vs. 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1258920" y="2492280"/>
            <a:ext cx="6512040" cy="3479760"/>
          </a:xfrm>
          <a:prstGeom prst="rect">
            <a:avLst/>
          </a:prstGeom>
          <a:ln w="0">
            <a:noFill/>
          </a:ln>
        </p:spPr>
      </p:pic>
      <p:sp>
        <p:nvSpPr>
          <p:cNvPr id="150" name="Obdĺžnik 7"/>
          <p:cNvSpPr/>
          <p:nvPr/>
        </p:nvSpPr>
        <p:spPr>
          <a:xfrm>
            <a:off x="1198440" y="5919840"/>
            <a:ext cx="193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droj: OECD Economic outlo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BlokTextu 8"/>
          <p:cNvSpPr/>
          <p:nvPr/>
        </p:nvSpPr>
        <p:spPr>
          <a:xfrm>
            <a:off x="1983240" y="2689200"/>
            <a:ext cx="134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Rast HDP v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42C8-B5D4-429C-B6FE-EFA53A5303CB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A4CEF01E-9158-4E7A-8CAA-FDB1628952DB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2. Makroekonomická situácia – stručný prehľ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14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ko ďaleko môže rastúce zadlženia krajín zájsť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vládny dlh (%HD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bdĺžnik 4"/>
          <p:cNvSpPr/>
          <p:nvPr/>
        </p:nvSpPr>
        <p:spPr>
          <a:xfrm>
            <a:off x="1198080" y="5559480"/>
            <a:ext cx="20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droj: CIA's World Factbook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C:\USERS\413675\Documents\800px-Public_debt_percent_gdp_world_map.png"/>
          <p:cNvPicPr/>
          <p:nvPr/>
        </p:nvPicPr>
        <p:blipFill>
          <a:blip r:embed="rId1"/>
          <a:stretch/>
        </p:blipFill>
        <p:spPr>
          <a:xfrm>
            <a:off x="1258920" y="2349360"/>
            <a:ext cx="70470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749C-6198-4493-AA16-AA4B1C62CB42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46C13C6C-F994-4837-9264-26D930AABA8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2. Makroekonomická situácia – stručný prehľ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46040" y="1267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49040" indent="-1490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soká úroveň rozpočtových schodkov spôsobuje rastúce zadlžovanie ekonomí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9040" indent="-1490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Zhoršenie kreditnej kvality vládnych dlhov – hrozba pre dlhopisových investor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9040" indent="-1490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Očakávaná redukcia a reštriktívne opatrenia budú mať dopad na ekonomický r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515280" cy="3816360"/>
          </a:xfrm>
          <a:prstGeom prst="rect">
            <a:avLst/>
          </a:prstGeom>
          <a:ln w="0">
            <a:noFill/>
          </a:ln>
        </p:spPr>
      </p:pic>
      <p:sp>
        <p:nvSpPr>
          <p:cNvPr id="161" name="Obdĺžnik 5"/>
          <p:cNvSpPr/>
          <p:nvPr/>
        </p:nvSpPr>
        <p:spPr>
          <a:xfrm>
            <a:off x="1343160" y="5919840"/>
            <a:ext cx="193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droj: OECD Economic outlo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BlokTextu 7"/>
          <p:cNvSpPr/>
          <p:nvPr/>
        </p:nvSpPr>
        <p:spPr>
          <a:xfrm>
            <a:off x="2159640" y="2298600"/>
            <a:ext cx="20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Vládny dlh v %H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E743-C339-4DB8-9097-D6609EF9659D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C2DC9DEB-3BCC-4734-892A-8EF46B1BA74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2. Makroekonomická situácia – stručný prehľ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6040" indent="-1760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ízke inflačné prostredie na vyspelých trhoch, opačná situácia je na EM trho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edostatočné využitie výrobných faktorov 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„output gap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zabezpečuje pokračovanie nízko-inflačného vývoja na vyspelých trho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28000" cy="3744720"/>
          </a:xfrm>
          <a:prstGeom prst="rect">
            <a:avLst/>
          </a:prstGeom>
          <a:ln w="0">
            <a:noFill/>
          </a:ln>
        </p:spPr>
      </p:pic>
      <p:sp>
        <p:nvSpPr>
          <p:cNvPr id="167" name="Obdĺžnik 5"/>
          <p:cNvSpPr/>
          <p:nvPr/>
        </p:nvSpPr>
        <p:spPr>
          <a:xfrm>
            <a:off x="1343160" y="5846760"/>
            <a:ext cx="193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droj: OECD Economic outlo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BlokTextu 7"/>
          <p:cNvSpPr/>
          <p:nvPr/>
        </p:nvSpPr>
        <p:spPr>
          <a:xfrm>
            <a:off x="2054520" y="2205000"/>
            <a:ext cx="308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Inflácia meraná CPI indexom (v 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Zástupný symbol päty 3"/>
          <p:cNvSpPr/>
          <p:nvPr/>
        </p:nvSpPr>
        <p:spPr>
          <a:xfrm>
            <a:off x="468360" y="6303960"/>
            <a:ext cx="403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Dlhopisové fondy – budú sa opakovať úspechy poslednej dob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E7AB-6F91-4093-9618-60CDCEE8CC0A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800" spc="-1" strike="noStrike">
                <a:solidFill>
                  <a:srgbClr val="000000"/>
                </a:solidFill>
                <a:latin typeface="Arial"/>
              </a:rPr>
              <a:t>Strana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D54D79E5-1544-49CD-8F3E-C89EB8F8ED1D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2. Makroekonomická situácia – stručný prehľ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987640" y="1989000"/>
            <a:ext cx="554508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9280" indent="-179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ces ukončovania silne expanzívnej menovej politiky bude veľmi opatrný a zatiaľ nie je na trhu úplne jasná predstava o presnom načasovaní a rozsah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ast peňažnej zásoby v Eurozóne je len miern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ízka miera inflácie, veľmi krehká ekonomická situácia a problémy dlhového financovania mnohých krajín menovej únie ako aj ukotvené inflačné očakávania podporujú ECB v opatrnom prístupe k menovej politik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adzby FEDu zostanú pravdepodobne nízke po dlhší čas, pokračujúci prospekt kvantitatívneho uvoľňovania, inflácia príliš nízka podľa tvorcov menovej politiky v US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ajbližší možný pohyb referenčných úrokových sadzieb zo strany hlavných centrálnych bánk (FED, ECB) je nahor, otázkou ostáva iba rozsah a načasovan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799"/>
              </a:spcBef>
              <a:tabLst>
                <a:tab algn="l" pos="0"/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\\shq404\MPPAMSLSP\OBRAZKY\j0400853.jpg"/>
          <p:cNvPicPr/>
          <p:nvPr/>
        </p:nvPicPr>
        <p:blipFill>
          <a:blip r:embed="rId1"/>
          <a:stretch/>
        </p:blipFill>
        <p:spPr>
          <a:xfrm>
            <a:off x="539640" y="2036880"/>
            <a:ext cx="2081160" cy="3120840"/>
          </a:xfrm>
          <a:prstGeom prst="rect">
            <a:avLst/>
          </a:prstGeom>
          <a:ln w="0">
            <a:noFill/>
          </a:ln>
        </p:spPr>
      </p:pic>
      <p:sp>
        <p:nvSpPr>
          <p:cNvPr id="173" name="BlokTextu 9"/>
          <p:cNvSpPr/>
          <p:nvPr/>
        </p:nvSpPr>
        <p:spPr>
          <a:xfrm>
            <a:off x="395640" y="134136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Centrálne banky, úrokové sadzby a menová politik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4:30:59Z</dcterms:created>
  <dc:creator>J133JJC</dc:creator>
  <dc:description/>
  <dc:language>en-US</dc:language>
  <cp:lastModifiedBy>413675</cp:lastModifiedBy>
  <cp:lastPrinted>2009-09-01T07:59:28Z</cp:lastPrinted>
  <dcterms:modified xsi:type="dcterms:W3CDTF">2010-10-26T15:09:17Z</dcterms:modified>
  <cp:revision>80</cp:revision>
  <dc:subject/>
  <dc:title>Titel der Präsentation</dc:title>
</cp:coreProperties>
</file>