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44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440" y="936288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25F7-5FBB-406B-988D-A2F9AA7522E8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ástupný symbol čísla snímky 3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C342-5954-4010-BF50-FBD8FD50B69D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7EC0-4C7B-4EC4-8A5E-EC2D70EE3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39800"/>
            <a:ext cx="4929120" cy="369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4800" y="936324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95F8-A076-4C4C-B749-F06DDEE1B458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36560"/>
            <a:ext cx="4930560" cy="369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5040" y="4680000"/>
            <a:ext cx="497520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Investičný cieľ klienta by sa mal zhodovať s investičným cieľom riešenia, ktoré si zvolil. Na prvý pohľad to vyzerá ako samozrejmosť, avšak v praxi sa stretávame s tým, že klient má nevyhovujúce portfólio. Aby sme vedeli priradiť klientovi vhodné portfólio, potrebujeme poznať jeho pohľad na výnos, ktorý  ho uspokojí, riziko, ktoré je ochotný niesť a investičný horizont, počas ktorého má voľné peniaze. Túto analýzu v podstate dnes vie urobiť každý zodpovedný poradca, čo je však náročnejšie je poznanie portfólia, ktoré klientovi následne odporučí. Poznáte portfólio, ktoré klientovi doporučujete? Viete posúdiť, či výnos a riziko portfólia je v súlade s očakávaním klient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F48-1B7D-4714-95A7-D20EBD71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044-E94B-4E41-A425-B26AA5C4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8A1-4805-4123-B776-C8D8EF6D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54D-686A-4AEF-96AA-A2F77D04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6C1-EFA1-4D25-953F-CD8C5932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474-D98D-4AFF-ADBC-DB2DF31D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AD4-8EB2-4E04-A30C-C7FC696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BE6-AFC4-40A6-A2EF-F614BFB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9AD-0827-4898-BDAC-8DF20D5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9C5-5547-4EBA-8CC4-168FEE57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61F-817E-4F55-8CAF-54BD31EC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E1-C99C-4B0F-A6AF-997319A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04D2-5440-4227-91CE-33349A07AAB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hyperlink" Target="http://ssrn.com/abstract=1629786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14240" y="85716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ývoj na akciových trho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Times New Roman"/>
              </a:rPr>
              <a:t>včera dnes a zaj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arek Prokopec,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tra Asset Management                                         6.11.2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Value a Momentum k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\\sbacfshome\homedirs\TB02157\My Documents\My Pictures\cumulative12.gif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4038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Value and Momentum Everywhere“ Moskowitz, Pedersen A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istribúcia kapitaliz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928800" y="639612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Star F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43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Motivácia vs výsled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762120" y="1981080"/>
          <a:ext cx="76197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4"/>
          <p:cNvSpPr/>
          <p:nvPr/>
        </p:nvSpPr>
        <p:spPr>
          <a:xfrm>
            <a:off x="838080" y="60958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“Behavioral Portfolio Analysis of Individual Investors”</a:t>
            </a:r>
            <a:r>
              <a:rPr b="1" lang="sk-SK" sz="1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Arvid Hoffmann, Hersh Shefrin and Joost Pe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3B4-983A-498A-B24A-1AC833D1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asovanie trhu - rea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001880" y="2133720"/>
          <a:ext cx="68356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2133720"/>
                    <a:ext cx="68356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Quantitative Analysis of Investor Behavior“ Da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sdaq Leadershi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B12-C7E2-4AC2-9183-9002399BBE16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hart 3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369280" cy="458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NL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 kriv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čísla snímky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C9EF-AE6D-4F15-844A-96F5D9BCEB88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442360" cy="446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B90D-190B-44CA-9493-D273583C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Horizo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00120" y="1714680"/>
            <a:ext cx="640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Intraday (daytr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krátkodobý (do ro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Krátkodobý (1 rok až 3 ro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trednodobý (3 až 5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lhodobý (5 roky a 10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Ultra long term (10 a viac rok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nvestičné odporúčanie/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valita odporúč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Súlad investičnej rady s investičným horizon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Emócie (chamtivosť a str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F24-2D38-4F5C-860F-094204708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523880" y="1523880"/>
          <a:ext cx="54864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486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343080" y="304920"/>
            <a:ext cx="796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80000"/>
              </a:lnSpc>
              <a:buClr>
                <a:srgbClr val="000000"/>
              </a:buClr>
              <a:buSzPct val="115000"/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</a:rPr>
              <a:t>Investičný gu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523880" y="66294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194e7d"/>
                </a:solidFill>
                <a:latin typeface="Times New Roman"/>
              </a:rPr>
              <a:t>Zdroj: </a:t>
            </a:r>
            <a:r>
              <a:rPr b="0" lang="en-US" sz="1000" spc="-1" strike="noStrike">
                <a:solidFill>
                  <a:srgbClr val="194e7d"/>
                </a:solidFill>
                <a:latin typeface="Times New Roman"/>
              </a:rPr>
              <a:t>www.cxoadviso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lhodobý vývo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8472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7168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Kapitálový trh – čo to vlastne j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esto, na ktorom sa obchoduje s kapitá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imoriadne efektívny spôsob obchodovania s podnikaní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ie je ru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je dôležit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Zo strednodobého pohľadu (3 až 7 rokov) je rozhodujú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cenenie akciových trhov (drahé vs lacn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Odchýlka od dlhodobých trendov akciových index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1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1680" y="6357960"/>
            <a:ext cx="7572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,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6929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2. dôležitý fak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71680" y="635796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5721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traktivita akcií (3 až 7 rokov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38080" y="1905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305920" cy="4624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85840" y="642924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Čo s tý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Atraktívne“ akcie = vysoké zastúpenie trhových (BETA)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bezpečné“ akcie = vysoký podiel chránených riešení s akciovou expozíci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C8A-EBC3-4CF5-B26F-58BC4A7E3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Risk-return po obdobi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28760" y="171468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40% ak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0% dlhop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786200" y="1714680"/>
            <a:ext cx="385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hové (Beta) + Aktívne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trendovo chránené rizikovo paritné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ieš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0800" y="2786040"/>
          <a:ext cx="2357280" cy="1298520"/>
        </p:xfrm>
        <a:graphic>
          <a:graphicData uri="http://schemas.openxmlformats.org/drawingml/2006/table">
            <a:tbl>
              <a:tblPr/>
              <a:tblGrid>
                <a:gridCol w="695160"/>
                <a:gridCol w="933480"/>
                <a:gridCol w="728640"/>
              </a:tblGrid>
              <a:tr h="221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21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6"/>
          <p:cNvSpPr/>
          <p:nvPr/>
        </p:nvSpPr>
        <p:spPr>
          <a:xfrm>
            <a:off x="285840" y="6257880"/>
            <a:ext cx="6476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Times New Roman"/>
              </a:rPr>
              <a:t>Zdroj: Tatra Asse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28760" y="4214880"/>
            <a:ext cx="8318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Ideá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212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Inve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724280" y="19954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Tahoma"/>
              </a:rPr>
              <a:t>Parametre portfó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3520" y="2654280"/>
            <a:ext cx="3200400" cy="1508760"/>
          </a:xfrm>
          <a:prstGeom prst="rect">
            <a:avLst/>
          </a:prstGeom>
          <a:solidFill>
            <a:srgbClr val="ebeacf"/>
          </a:solidFill>
          <a:ln w="38160">
            <a:solidFill>
              <a:srgbClr val="8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Investičný cie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zhodnotenie/rizi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888374"/>
                </a:solidFill>
                <a:latin typeface="Tahoma"/>
              </a:rPr>
              <a:t>Obmedzen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888374"/>
                </a:solidFill>
                <a:latin typeface="Tahoma"/>
              </a:rPr>
              <a:t>investičný horizo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5486400" y="2540160"/>
            <a:ext cx="3200400" cy="1777680"/>
          </a:xfrm>
          <a:prstGeom prst="ellipse">
            <a:avLst/>
          </a:prstGeom>
          <a:solidFill>
            <a:srgbClr val="e5e5ff"/>
          </a:solidFill>
          <a:ln w="381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638680" y="3063960"/>
            <a:ext cx="3200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3366"/>
                </a:solidFill>
                <a:latin typeface="Tahoma"/>
              </a:rPr>
              <a:t>riziko, výnos</a:t>
            </a:r>
            <a:r>
              <a:rPr b="1" lang="sk-SK" sz="2400" spc="-1" strike="noStrike">
                <a:solidFill>
                  <a:srgbClr val="003366"/>
                </a:solidFill>
                <a:latin typeface="Tahoma"/>
              </a:rPr>
              <a:t>              </a:t>
            </a:r>
            <a:r>
              <a:rPr b="1" lang="sk-SK" sz="2000" spc="-1" strike="noStrike">
                <a:solidFill>
                  <a:srgbClr val="003366"/>
                </a:solidFill>
                <a:latin typeface="Tahoma"/>
              </a:rPr>
              <a:t>investičný horiz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" y="4648320"/>
            <a:ext cx="8686800" cy="0"/>
          </a:xfrm>
          <a:prstGeom prst="line">
            <a:avLst/>
          </a:prstGeom>
          <a:ln w="123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3733920" y="4724280"/>
            <a:ext cx="1981080" cy="1447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507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368960" y="2879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ôlež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výnose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a riziku zálež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Nenechať rozhodovať emó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historický vývoj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– S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9480" y="6234120"/>
            <a:ext cx="6477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Times New Roman"/>
              </a:rPr>
              <a:t>Zdroj: „Global Investment Returns Yearbook 2010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, Dimson, Marsh and Stau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Trhy a horiz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0,10,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429400" cy="5143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0004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Akcie vs ekonom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373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Otáčanie z rece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i otáčaní z ekonomických recesií akciový trh predbieha ekonomiku v priemere o 4,8 mesi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kciové indexy v tomto období vzrástli v priemere 22,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57160" y="639756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Zdroj: „Stocks for the long run“  Jeremy Sie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Zdroje výno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71800"/>
            <a:ext cx="77724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Tr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2. Aktívna sprá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asovanie tr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ber „lepších“ cenných pa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. Ná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24000" y="1628640"/>
            <a:ext cx="350496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12-3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ysoké očakávania, spoločnosť negatívne prekvapuje, analytici revidujú čís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3-6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očakávania výrazne padajú do bodu, kedy všetky zlé správy su v ocenení, spoločnosť sa stáva ignorova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6-9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VALUE oblasť, ocenenie je priaznivé, spoločnosť pozitívne prekvapuje, analytici zvyšujú odh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73260"/>
                </a:solidFill>
                <a:latin typeface="Times New Roman"/>
              </a:rPr>
              <a:t>9-12:</a:t>
            </a:r>
            <a:r>
              <a:rPr b="0" lang="sk-SK" sz="1800" spc="-1" strike="noStrike">
                <a:solidFill>
                  <a:srgbClr val="073260"/>
                </a:solidFill>
                <a:latin typeface="Times New Roman"/>
              </a:rPr>
              <a:t> MOMENTUM oblasť, rast ziskov a ceny na trh až do bodu, kedy každý takmer investor pozná a vlastní spoločnos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73260"/>
              </a:buClr>
              <a:buSzPct val="110000"/>
              <a:buFont typeface="Times New Roman"/>
              <a:buChar char="°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857760" y="1928880"/>
            <a:ext cx="512604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Cyklus akcie – investičné hodiny (map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09:52Z</dcterms:created>
  <dc:creator>tb02157</dc:creator>
  <dc:description/>
  <dc:language>en-US</dc:language>
  <cp:lastModifiedBy>tb02157</cp:lastModifiedBy>
  <dcterms:modified xsi:type="dcterms:W3CDTF">2010-10-29T14:02:09Z</dcterms:modified>
  <cp:revision>143</cp:revision>
  <dc:subject/>
  <dc:title>Slide 1</dc:title>
</cp:coreProperties>
</file>