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A04-E9E4-4A47-BE71-A31D9C49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6EF-D2C0-4043-95F3-EC918F4C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34E-E613-4A64-8586-9D10EAA6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A43-AB6D-40EA-A217-DC967B09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1CF3-477C-4E3A-A1B5-4FE3EE4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8004-05A0-44B5-93EF-8DFEB6C2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5F3-B701-41BA-8013-EC66F7A5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6CFD-97C4-4294-92BA-D65B45B5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62DA-39EC-4E69-81BE-FC1FBE61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9E81-47ED-4582-9457-3EFE8E0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340B-6894-4CC1-9A9F-3C9C3F1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89D-16CA-4586-BC3D-EE6BBDD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4CC-C404-4067-8C27-1A0B76C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88B6-2535-49BD-8990-463003A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3F47-A9DF-4B12-BBD8-81650BE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AEE5-7450-4416-8E26-A39F7D94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92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7640" y="5300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56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92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7640" y="5714280"/>
            <a:ext cx="28029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B66E-F223-40DF-A231-64D4AE49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CB1-0E38-4524-BC93-C3D9CA22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FC3-3F29-48A9-B6B1-A5E4068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4F8-B8DC-4CA2-A3F4-644E02A8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560" y="4292640"/>
            <a:ext cx="8708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12C-CEAC-425A-BB9B-1B7A50A8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438-D6AB-41C4-9262-3E7C085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5714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78C-97C0-4E73-894D-49528DD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5300280"/>
            <a:ext cx="42483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5714280"/>
            <a:ext cx="8705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A99-15EF-4C46-964D-8739703F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EFD6-3290-45D3-A9CE-863B5978AA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666E-4D65-46FD-953D-65F351A1EEE5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Rekodifikácia zákona o kolektívnom investovaní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Master – feeder“ štruktú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Asset poo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Master – feeder“ štruktúr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 rámci UCITS III zakázané (investičný limit max. 20%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UCITS IV ustanovuje výnimku nad 20% lim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umožňuje vnútroštátne aj cezhraničné „master-feeder“ štruktú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Feeder fond – „</a:t>
            </a:r>
            <a:r>
              <a:rPr b="1" i="1" lang="sk-SK" sz="1800" spc="-1" strike="noStrike">
                <a:solidFill>
                  <a:srgbClr val="000000"/>
                </a:solidFill>
                <a:latin typeface="Tahoma"/>
              </a:rPr>
              <a:t>Zberný (podriadený) fond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Fond alebo podfond, ktorý investuje min. 85 % NAV do master fondu (alebo master podfondu)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zvyšných 15% - likvidný majetok, hedging menového 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Úvodná investícia musí byť schválená; KID a predajný prospekt zberného fondu musia obsahovať špecifické informáci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Master fond – </a:t>
            </a:r>
            <a:r>
              <a:rPr b="1" i="1" lang="sk-SK" sz="1800" spc="-1" strike="noStrike">
                <a:solidFill>
                  <a:srgbClr val="000000"/>
                </a:solidFill>
                <a:latin typeface="Tahoma"/>
              </a:rPr>
              <a:t>„Hlavný fond“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Nesmie byť zároveň feeder fondom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Nesmie investovať do žiadneho feeder fond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Musí mať aspoň 2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Ak neexistuje jeho priama distribúcia, nemusí byť notifikovaný pre verejnú ponuku na území domovských členských štátov feeder fond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Master – feeder“ štruktúr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274920" y="3141720"/>
            <a:ext cx="2664000" cy="0"/>
          </a:xfrm>
          <a:prstGeom prst="line">
            <a:avLst/>
          </a:prstGeom>
          <a:ln w="76320">
            <a:solidFill>
              <a:srgbClr val="003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03280" y="2854440"/>
            <a:ext cx="2663640" cy="0"/>
          </a:xfrm>
          <a:prstGeom prst="line">
            <a:avLst/>
          </a:prstGeom>
          <a:ln w="76320">
            <a:solidFill>
              <a:srgbClr val="0038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1989000"/>
            <a:ext cx="1506600" cy="546120"/>
          </a:xfrm>
          <a:solidFill>
            <a:srgbClr val="00388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stí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5% - 100% N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357720"/>
            <a:ext cx="1058760" cy="474480"/>
          </a:xfrm>
          <a:solidFill>
            <a:srgbClr val="003881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ielové li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4149720"/>
            <a:ext cx="280836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0920" y="4438800"/>
            <a:ext cx="208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81"/>
                </a:solidFill>
                <a:latin typeface="Tahoma"/>
              </a:rPr>
              <a:t>Zmlu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81"/>
                </a:solidFill>
                <a:latin typeface="Tahoma"/>
              </a:rPr>
              <a:t>(interné pravidlá čin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78560" y="5230800"/>
            <a:ext cx="1368720" cy="431640"/>
          </a:xfrm>
          <a:custGeom>
            <a:avLst/>
            <a:gdLst>
              <a:gd name="textAreaLeft" fmla="*/ 50760 w 1368720"/>
              <a:gd name="textAreaRight" fmla="*/ 1317960 w 136872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684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854" y="21600"/>
                </a:lnTo>
                <a:arcTo wR="3600" hR="3600" stAng="10800000" swAng="5400000"/>
                <a:lnTo>
                  <a:pt x="68454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zi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78560" y="5734080"/>
            <a:ext cx="1368720" cy="433440"/>
          </a:xfrm>
          <a:custGeom>
            <a:avLst/>
            <a:gdLst>
              <a:gd name="textAreaLeft" fmla="*/ 51120 w 1368720"/>
              <a:gd name="textAreaRight" fmla="*/ 1317600 w 136872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681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570" y="21600"/>
                </a:lnTo>
                <a:arcTo wR="3600" hR="3600" stAng="10800000" swAng="5400000"/>
                <a:lnTo>
                  <a:pt x="68170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í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6560" y="5950080"/>
            <a:ext cx="532944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5516640"/>
            <a:ext cx="3746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81"/>
                </a:solidFill>
                <a:latin typeface="Arial"/>
              </a:rPr>
              <a:t>zmluvy o výmene informá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230800"/>
            <a:ext cx="1368360" cy="431640"/>
          </a:xfrm>
          <a:custGeom>
            <a:avLst/>
            <a:gdLst>
              <a:gd name="textAreaLeft" fmla="*/ 50760 w 1368360"/>
              <a:gd name="textAreaRight" fmla="*/ 1317600 w 1368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684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836" y="21600"/>
                </a:lnTo>
                <a:arcTo wR="3600" hR="3600" stAng="10800000" swAng="5400000"/>
                <a:lnTo>
                  <a:pt x="68436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zi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734080"/>
            <a:ext cx="1368360" cy="43344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433440"/>
              <a:gd name="textAreaBottom" fmla="*/ 382320 h 433440"/>
            </a:gdLst>
            <a:ahLst/>
            <a:rect l="textAreaLeft" t="textAreaTop" r="textAreaRight" b="textAreaBottom"/>
            <a:pathLst>
              <a:path w="6815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4552" y="21600"/>
                </a:lnTo>
                <a:arcTo wR="3600" hR="3600" stAng="10800000" swAng="5400000"/>
                <a:lnTo>
                  <a:pt x="68152" y="3600"/>
                </a:lnTo>
                <a:arcTo wR="3600" hR="3600" stAng="5400000" swAng="5400000"/>
                <a:close/>
              </a:path>
            </a:pathLst>
          </a:cu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í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5446800"/>
            <a:ext cx="5329440" cy="0"/>
          </a:xfrm>
          <a:prstGeom prst="line">
            <a:avLst/>
          </a:prstGeom>
          <a:ln w="38160">
            <a:solidFill>
              <a:srgbClr val="00388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26384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6384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3280" y="3862440"/>
            <a:ext cx="1332000" cy="7189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rávcovsk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ločno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0560" y="3862440"/>
            <a:ext cx="1332000" cy="7189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rávcovsk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oločno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7" idx="4"/>
            <a:endCxn id="149" idx="0"/>
          </p:cNvCxnSpPr>
          <p:nvPr/>
        </p:nvCxnSpPr>
        <p:spPr>
          <a:xfrm>
            <a:off x="2340000" y="3285720"/>
            <a:ext cx="18000" cy="57708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  <p:cxnSp>
        <p:nvCxnSpPr>
          <p:cNvPr id="151" name=""/>
          <p:cNvCxnSpPr>
            <a:stCxn id="146" idx="4"/>
            <a:endCxn id="148" idx="0"/>
          </p:cNvCxnSpPr>
          <p:nvPr/>
        </p:nvCxnSpPr>
        <p:spPr>
          <a:xfrm>
            <a:off x="6732720" y="3285720"/>
            <a:ext cx="18000" cy="57708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981000"/>
            <a:ext cx="8207280" cy="2854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Úvodná investícia zberného fondu do hlavného fondu podlieha povoľovaciemu kon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207280" cy="2854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dchádzajúci súhlas je potrebný n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3360"/>
            <a:ext cx="8207280" cy="453528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844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menu štandardného podielového fondu na 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8446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menu hlavného fondu pre príslušný 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393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menu zberného fondu na štandardný podielový fond, ktorý nie je zberným fondo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3933720"/>
            <a:ext cx="381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, aby pri zlúčení hlavného fondu zberný fond zostal zberným fondom toho istého hlavného fond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213000"/>
            <a:ext cx="1152720" cy="64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Štandard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22766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321300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60" idx="4"/>
            <a:endCxn id="161" idx="0"/>
          </p:cNvCxnSpPr>
          <p:nvPr/>
        </p:nvCxnSpPr>
        <p:spPr>
          <a:xfrm>
            <a:off x="3131640" y="2924280"/>
            <a:ext cx="1080" cy="289440"/>
          </a:xfrm>
          <a:prstGeom prst="straightConnector1">
            <a:avLst/>
          </a:prstGeom>
          <a:ln w="38160">
            <a:solidFill>
              <a:srgbClr val="003881"/>
            </a:solidFill>
            <a:miter/>
          </a:ln>
        </p:spPr>
      </p:cxnSp>
      <p:cxnSp>
        <p:nvCxnSpPr>
          <p:cNvPr id="163" name=""/>
          <p:cNvCxnSpPr>
            <a:stCxn id="159" idx="6"/>
            <a:endCxn id="161" idx="2"/>
          </p:cNvCxnSpPr>
          <p:nvPr/>
        </p:nvCxnSpPr>
        <p:spPr>
          <a:xfrm>
            <a:off x="1979280" y="3536640"/>
            <a:ext cx="577080" cy="10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076720" y="22766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321300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5652720" y="292428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sp>
        <p:nvSpPr>
          <p:cNvPr id="167" name=""/>
          <p:cNvSpPr/>
          <p:nvPr/>
        </p:nvSpPr>
        <p:spPr>
          <a:xfrm>
            <a:off x="6732720" y="227664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ov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5" idx="7"/>
            <a:endCxn id="167" idx="3"/>
          </p:cNvCxnSpPr>
          <p:nvPr/>
        </p:nvCxnSpPr>
        <p:spPr>
          <a:xfrm flipV="1">
            <a:off x="6060600" y="2828520"/>
            <a:ext cx="840600" cy="4802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627280" y="551664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Štandard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4581360"/>
            <a:ext cx="1152720" cy="64800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5518080"/>
            <a:ext cx="1152720" cy="647640"/>
          </a:xfrm>
          <a:prstGeom prst="ellipse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0" idx="4"/>
            <a:endCxn id="171" idx="0"/>
          </p:cNvCxnSpPr>
          <p:nvPr/>
        </p:nvCxnSpPr>
        <p:spPr>
          <a:xfrm>
            <a:off x="1402920" y="522936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cxnSp>
        <p:nvCxnSpPr>
          <p:cNvPr id="173" name=""/>
          <p:cNvCxnSpPr>
            <a:stCxn id="171" idx="6"/>
            <a:endCxn id="169" idx="2"/>
          </p:cNvCxnSpPr>
          <p:nvPr/>
        </p:nvCxnSpPr>
        <p:spPr>
          <a:xfrm flipV="1">
            <a:off x="1979280" y="5839560"/>
            <a:ext cx="64836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076720" y="4653000"/>
            <a:ext cx="1152720" cy="647640"/>
          </a:xfrm>
          <a:prstGeom prst="ellipse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Zanikajú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5589720"/>
            <a:ext cx="115272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ber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4" idx="4"/>
            <a:endCxn id="175" idx="0"/>
          </p:cNvCxnSpPr>
          <p:nvPr/>
        </p:nvCxnSpPr>
        <p:spPr>
          <a:xfrm>
            <a:off x="5652720" y="5300280"/>
            <a:ext cx="1080" cy="289440"/>
          </a:xfrm>
          <a:prstGeom prst="straightConnector1">
            <a:avLst/>
          </a:prstGeom>
          <a:ln w="9360">
            <a:solidFill>
              <a:srgbClr val="003881"/>
            </a:solidFill>
            <a:prstDash val="dash"/>
            <a:miter/>
          </a:ln>
        </p:spPr>
      </p:cxnSp>
      <p:sp>
        <p:nvSpPr>
          <p:cNvPr id="177" name=""/>
          <p:cNvSpPr/>
          <p:nvPr/>
        </p:nvSpPr>
        <p:spPr>
          <a:xfrm>
            <a:off x="6732720" y="4653000"/>
            <a:ext cx="1152360" cy="647640"/>
          </a:xfrm>
          <a:prstGeom prst="ellipse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jímajú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lavný f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7" idx="2"/>
          </p:cNvCxnSpPr>
          <p:nvPr/>
        </p:nvCxnSpPr>
        <p:spPr>
          <a:xfrm>
            <a:off x="6229440" y="4976280"/>
            <a:ext cx="504000" cy="1080"/>
          </a:xfrm>
          <a:prstGeom prst="straightConnector1">
            <a:avLst/>
          </a:prstGeom>
          <a:ln w="38160">
            <a:solidFill>
              <a:srgbClr val="003881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7"/>
            <a:endCxn id="177" idx="3"/>
          </p:cNvCxnSpPr>
          <p:nvPr/>
        </p:nvCxnSpPr>
        <p:spPr>
          <a:xfrm flipV="1">
            <a:off x="6060600" y="5204880"/>
            <a:ext cx="840600" cy="4802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4572000" y="1773360"/>
            <a:ext cx="0" cy="4535280"/>
          </a:xfrm>
          <a:prstGeom prst="line">
            <a:avLst/>
          </a:prstGeom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933720"/>
            <a:ext cx="8207280" cy="0"/>
          </a:xfrm>
          <a:prstGeom prst="line">
            <a:avLst/>
          </a:prstGeom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Non-UCITS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sk-SK" sz="2400" spc="-1" strike="noStrike">
                <a:solidFill>
                  <a:srgbClr val="000000"/>
                </a:solidFill>
                <a:latin typeface="Tahoma"/>
              </a:rPr>
              <a:t>Špeciálne podielové fondy“ –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ondy, ktoré nepodliehajú smernici UCITS –Nepodliehajú teda ani žiadnemu z cezhraničných mechanizmov smernice UCITS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lavné odlišnosti od štandardných podielových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ípustné aktíva a investičné li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olená forma uzavret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je podiel non-UCITS fondov na slovenskom trhu zanedbateľný (4,4 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dným z cieľov rekodifikácie je podpora rozvoja tohto segmen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prípade fondov určených retailovému segmentu by úroveň ochrany podielnikov mala byť porovnateľná ako pri UCITS fondo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rečo na Slovensku neexistujú uzavreté podielové fondy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zavreté podielové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ytvorené na dobu určit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dielnici nemajú právo na redemác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vinnosť zaknihovania podielových listov u.p.f. v Centrálnom depozitári cenných papierov (CD C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vinnosť prijatia podielových listov u.p.f. na obchodovanie na regulovanom tr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 súčasnosti na slovenskom trhu neexistuje žiadny uzavretý podielový fo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ávrhy na rieš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zšírenie o možnosť prijatia na obchodovanie v rámci mnohostranných obchodných systémov (MT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zšírenie samostatnej evidencie podielových listov (vedenej správcom a depozitárom) aj na podielové listy u.p.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Retailové vs. profesionálne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206064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ai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06064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ionálne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492280"/>
            <a:ext cx="4032360" cy="430452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ované prostredníctvom verejnej ponu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ktová regulácia ustanovená zákonom (napr. pravidlá investovania a investičné lim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ia byť povolené pred vytvor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ná miera zverejňovania informácií a dokument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ný reporting dohľ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92280"/>
            <a:ext cx="4032360" cy="42087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ované prostredníctvom privátnej ponuky obmedzenému okruhu invest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medzená prevoditeľnosť podielových lis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asť pravidiel ustanovená na úrovni štatútu (napr. prípustné aktíva a investičné limity, spôsob a frekvencia oceňovania alebo spôsob sprístupňovania informácií a sprá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volenie môže byť udelené ex-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medzená dokumentácia a reporting dohľ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2421000"/>
            <a:ext cx="8209080" cy="388764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5445000"/>
            <a:ext cx="42670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197000"/>
            <a:ext cx="8207640" cy="53244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on-UCITS fo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1700280"/>
            <a:ext cx="8207640" cy="7059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vorené podie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zavreté podielové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55640" y="2565360"/>
            <a:ext cx="4824360" cy="3672000"/>
            <a:chOff x="755640" y="2565360"/>
            <a:chExt cx="4824360" cy="3672000"/>
          </a:xfrm>
        </p:grpSpPr>
        <p:sp>
          <p:nvSpPr>
            <p:cNvPr id="196" name=""/>
            <p:cNvSpPr/>
            <p:nvPr/>
          </p:nvSpPr>
          <p:spPr>
            <a:xfrm>
              <a:off x="893520" y="335772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nehnuteľnos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3520" y="429264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cenných papier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520" y="5229360"/>
              <a:ext cx="45478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Verejný špeciálny podielový fo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lternatívnych investíci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5640" y="2565360"/>
              <a:ext cx="4824360" cy="3672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388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Verejné špeciálne podielové fon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84720" y="2565360"/>
            <a:ext cx="2519640" cy="367200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3672000"/>
              <a:gd name="textAreaBottom" fmla="*/ 3549240 h 3672000"/>
            </a:gdLst>
            <a:ahLst/>
            <a:rect l="textAreaLeft" t="textAreaTop" r="textAreaRight" b="textAreaBottom"/>
            <a:pathLst>
              <a:path w="21600" h="31477">
                <a:moveTo>
                  <a:pt x="3600" y="0"/>
                </a:moveTo>
                <a:arcTo wR="3600" hR="3600" stAng="16200000" swAng="-5400000"/>
                <a:lnTo>
                  <a:pt x="0" y="27877"/>
                </a:lnTo>
                <a:arcTo wR="3600" hR="3600" stAng="10800000" swAng="-5400000"/>
                <a:lnTo>
                  <a:pt x="18000" y="31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Špeciálne podielové fondy profesionálnych inves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nehnuteľností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račovanie v doterajšej regulá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ame investície do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riame investície do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itné spoločnosti (SPV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né papiere viazané na trh nehnuteľnost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. 10% – Likvidná zložka majet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lepšenie existujúcej právnej úpravy a zahrnutie doterajších skúseností s fungovaním špeciálnych podielových fondov nehnuteľ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pr. úpravy pri financovaní projektov s nehnuteľnosťa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cenných papie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ákladná alternatíva k štandardným podielovým fo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ípustné aktí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nvestície prípustné pre fondy UC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+ cenné papiere a nástroje peňažného trhu prijaté na obchodovanie na MT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+ „covered bonds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lhopisy vydané alebo garantované členskými štátmi EÚ a ich centrálnymi banka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imity obmedzenia rizika voľnejšie v porovnaní s úpravou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pr. 25% na CP vydaných jedným emitent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Verejný špeciálny podielový fond alternatívnych investícií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ozšírenie investovania do tzv. alternatívnych aktí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né (nelistované) CP a majetkové podiely v obchodných spoločnosti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modity a komoditné deriváty a prevoditeľné cenné papiere s vnorenými komoditnými derivátm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rahé kovy a certifikáty, ktoré ich zastupuj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 pre vytvorenie private equity a venture capital fond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Prečo potrebujeme nový zákon o kolektívnom investovaní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rnica 2009/65/ES – UCITS I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dstránenie zostávajúcich bariér vnútorného trhu EÚ – Nové cezhraničné inštitú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zhraničná sprá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zhraničné zlučovanie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-feeder“ štruktú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orma cezhraničného predaja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a poskytnúť slovenským správcom konkurencieschopné legislatívne prostred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ernizácia právnej úpravy kolektívneho investovania na Slovensk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Špeciálne podielové fondy profesionálnych investo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ípustné len pre obmedzenú skupinu profesionálnych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nčné inštitúcie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ľké obchodné spoločnosti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Štátne orgány a orgány samosprávy, ARDAL a obdobné zahraničné inštitúcie, NBS a iné centrálne banky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yzické osoby s dostatočným finančným zabezpečením a skúsenosťami na finančnom trh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oditeľnosť podielových listov je obmedze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žnosť distribúcie len prostredníctvom privátnej ponu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76240" indent="-4190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nuka  adresovaná vopred určenému okruhu investorov bez využitia prostriedkov zverejn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äčšinu pravidiel spravovania fondu ustanoví štatú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prípade existujúcich správcovských spoločností možno udeliť povolenie ex-post po vytvorení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medzené zverejňovanie a dokumentácia menšieho rozsa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Zmeny v distribúcii podielových list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Kľúčové informácie pre invest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Dôraz na komunikáciu s podielnikmi v osobitných prípad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ľúčové informácie pre investor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okument kľúčových informácií pre investora (K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rátky predzmluvný dokum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ahrádza zjednodušený predajný prospekt (prechodné obdobie do 30. júna 201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usí byť poskytnutý investorovi pred vstupom do zmluvného vzťa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 priamej distribúcii – správcovskou spoločnosť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 nepriamej distribúcii – distribútorom (bankou, o.c.p., finančným agentom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ieľom je umožniť investorom prijať informované investičné rozhodnu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ľúčové informácie pre investor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Základné atribú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Struč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2-stranový dok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Jednoduch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usí byť zrozumiteľný bez odkazov na iné dokumen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Zrozumiteľnosť pre bežného invest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oužívať netechnický jazyk, bez žargónu a odborných výraz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orovnateľnos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hodná forma pre všetky UCITS fondy v E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Príst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vinnosť zverejnenia na webovej stránke správcovskej spoločnosti a v listinnej podobe v sídle správcovskej spoločnosti  a depozitára a na každom predajnom mies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Základné prvky K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čné údaje správcu a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rátky opis investičných cieľov a investičnej politi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ulá výkonnosť (scenáre výkonnost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áklady a poplatky súvisiace s investíci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zikovo-výnosový profil, vrátane varovania pred rizikami súvisiacimi s investíci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točné praktické informá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Jednotná forma KI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68440" y="2060640"/>
            <a:ext cx="6229440" cy="432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Komunikácia s podielnikm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sobitné príp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lučovanie fond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Zmeny týkajúce sa „master-feeder“ štruktú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mena štandardného podielového fondu na zberný fo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mena hlavného fon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lúčenie hlavného fond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 týchto prípadoch má správca povinnos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sobitne informovať podielnikov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skytnúť zákonom vymedzené informácie (napr. KID hlavného fondu) a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možniť im počas 30 dní redemáciu bez uplatnenia výstupných poplatk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ácie by mali byť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sobne adresované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dielnik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ípustná 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ísomná forma alebo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ma trvanlivého média (napr. email), ak je to pre klienta vhodné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munikáciu s podielnikmi môže správca zveriť distribútor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50920" y="1052640"/>
            <a:ext cx="2736720" cy="108108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C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štandardné podielové fond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1052640"/>
            <a:ext cx="5689440" cy="108108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n-UC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špeciálne podielové fondy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205000"/>
            <a:ext cx="2735280" cy="432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Výhrad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otvoren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2205000"/>
            <a:ext cx="5689440" cy="432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Otvoren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a uzavreté podie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2708280"/>
            <a:ext cx="2592360" cy="57636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erejné špeciálne podielové fo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149720"/>
            <a:ext cx="2160720" cy="64764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cenných papierov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4797360"/>
            <a:ext cx="2160720" cy="64764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alternatívnych investíci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3500280"/>
            <a:ext cx="2160720" cy="64800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Verejn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špeciálny podielový f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nehnuteľností</a:t>
            </a:r>
            <a:r>
              <a:rPr b="1" lang="en-US" sz="1200" spc="-1" strike="noStrike">
                <a:solidFill>
                  <a:srgbClr val="003881"/>
                </a:solidFill>
                <a:latin typeface="Tahoma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2708280"/>
            <a:ext cx="2952720" cy="57636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Špeciálny podielový 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rofesionálnych investorov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516640"/>
            <a:ext cx="5545080" cy="21744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81"/>
                </a:solidFill>
                <a:latin typeface="Tahoma"/>
              </a:rPr>
              <a:t>Retailové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5516640"/>
            <a:ext cx="2952720" cy="21600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881"/>
                </a:solidFill>
                <a:latin typeface="Tahoma"/>
              </a:rPr>
              <a:t>Profesionálne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500280"/>
            <a:ext cx="244800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ondy peňažného tr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86064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Krátkodob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414972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Dlhodobejš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708280"/>
            <a:ext cx="2736720" cy="72072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ežná produktová šká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peňažné, akciové, dlhopisové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miešané, zaistené fon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4508640"/>
            <a:ext cx="2448000" cy="288720"/>
          </a:xfrm>
          <a:prstGeom prst="roundRect">
            <a:avLst>
              <a:gd name="adj" fmla="val 16667"/>
            </a:avLst>
          </a:prstGeom>
          <a:solidFill>
            <a:srgbClr val="003881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aster-Feeder“ štruktú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" y="4869000"/>
            <a:ext cx="2160720" cy="28872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Hlavný fon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5157720"/>
            <a:ext cx="2160720" cy="289080"/>
          </a:xfrm>
          <a:prstGeom prst="roundRect">
            <a:avLst>
              <a:gd name="adj" fmla="val 16667"/>
            </a:avLst>
          </a:prstGeom>
          <a:solidFill>
            <a:srgbClr val="003881">
              <a:alpha val="30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i="1" lang="en-US" sz="1200" spc="-1" strike="noStrike">
                <a:solidFill>
                  <a:srgbClr val="003881"/>
                </a:solidFill>
                <a:latin typeface="Tahoma"/>
              </a:rPr>
              <a:t>Zberný (podriadený) fon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94920" y="3429000"/>
            <a:ext cx="144360" cy="1224000"/>
            <a:chOff x="394920" y="3429000"/>
            <a:chExt cx="144360" cy="1224000"/>
          </a:xfrm>
        </p:grpSpPr>
        <p:sp>
          <p:nvSpPr>
            <p:cNvPr id="240" name=""/>
            <p:cNvSpPr/>
            <p:nvPr/>
          </p:nvSpPr>
          <p:spPr>
            <a:xfrm>
              <a:off x="395280" y="34290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94920" y="4653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94920" y="3645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4360" y="3789360"/>
            <a:ext cx="142560" cy="503280"/>
            <a:chOff x="684360" y="3789360"/>
            <a:chExt cx="142560" cy="503280"/>
          </a:xfrm>
        </p:grpSpPr>
        <p:sp>
          <p:nvSpPr>
            <p:cNvPr id="244" name=""/>
            <p:cNvSpPr/>
            <p:nvPr/>
          </p:nvSpPr>
          <p:spPr>
            <a:xfrm>
              <a:off x="684360" y="3789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4360" y="4292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40053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4360" y="4797360"/>
            <a:ext cx="142560" cy="503280"/>
            <a:chOff x="684360" y="4797360"/>
            <a:chExt cx="142560" cy="503280"/>
          </a:xfrm>
        </p:grpSpPr>
        <p:sp>
          <p:nvSpPr>
            <p:cNvPr id="248" name=""/>
            <p:cNvSpPr/>
            <p:nvPr/>
          </p:nvSpPr>
          <p:spPr>
            <a:xfrm>
              <a:off x="684360" y="4797360"/>
              <a:ext cx="0" cy="5032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5300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50133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419640" y="3284640"/>
            <a:ext cx="215640" cy="1873080"/>
            <a:chOff x="3419640" y="3284640"/>
            <a:chExt cx="215640" cy="1873080"/>
          </a:xfrm>
        </p:grpSpPr>
        <p:sp>
          <p:nvSpPr>
            <p:cNvPr id="252" name=""/>
            <p:cNvSpPr/>
            <p:nvPr/>
          </p:nvSpPr>
          <p:spPr>
            <a:xfrm>
              <a:off x="3419640" y="3284640"/>
              <a:ext cx="0" cy="1873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9640" y="515772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19640" y="443700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9640" y="3789360"/>
              <a:ext cx="215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50920" y="5734080"/>
            <a:ext cx="5545080" cy="57636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Spôsob distribúcie: najmä verejná ponu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Dokumentácia: štatút, prospekt, KID, ročná a polročná s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5734080"/>
            <a:ext cx="2951280" cy="576360"/>
          </a:xfrm>
          <a:prstGeom prst="rect">
            <a:avLst/>
          </a:prstGeom>
          <a:noFill/>
          <a:ln w="936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Spôsob distribúcie: privátna ponu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81"/>
                </a:solidFill>
                <a:latin typeface="Tahoma"/>
              </a:rPr>
              <a:t>Dokumentácia: min. štatút, prospe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549360"/>
            <a:ext cx="842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ávrh rekodifikácie zákona o kolektívnom investovaní, stav k 5. novembru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50560" y="530028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Ing. Tomáš Ambr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Odbor regulácie a finančných analýz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4a45"/>
                </a:solidFill>
                <a:latin typeface="Tahoma"/>
              </a:rPr>
              <a:t>Národná banka Slovenska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Harmonogram prípravy nového zákon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2060640"/>
          <a:ext cx="8229600" cy="37447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 Novembe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verejnenie smernice UCITS IV v Ú. v. E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bruá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zultačný materiál MF SR k transpozícii smer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ec – Júl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íprava pracovnej verzie návrhu nového Z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August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loženie prvej pracovnej verzie odbornej verej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tember – Októ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pomienkovanie pracovnej verzie a konzultá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v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čiatok medzirezortného pripomienkového kon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cember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loženie návrhu zákona vláde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nuár – Marec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rokúvanie návrhu zákona v Národnej rade 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Júl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pokladaná účinnosť nového zák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81"/>
                </a:solidFill>
                <a:latin typeface="Tahoma"/>
              </a:rPr>
              <a:t>Čo prináša nový zákon o kolektívnom investovaní?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Nové produkty pre slovensk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Zmeny v rámci distribúcie podielových list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Nové produkty pre slovenský tr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133720"/>
            <a:ext cx="8207280" cy="3682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vé štruktúry fon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565360"/>
            <a:ext cx="8207280" cy="7059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trešné podielové fondy (fondy s podfonda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ranže“ podielových lis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335772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vé UCITS produ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357720"/>
            <a:ext cx="4032360" cy="398880"/>
          </a:xfrm>
          <a:prstGeom prst="rect">
            <a:avLst/>
          </a:prstGeom>
          <a:solidFill>
            <a:srgbClr val="003881"/>
          </a:solidFill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UCITS produ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789360"/>
            <a:ext cx="4032360" cy="278820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dy peňažného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– feeder“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3789360"/>
            <a:ext cx="4032360" cy="252756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novenie uzavretých podielových fond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ailové fondy – „verejné špeciálne podielové fondy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cenných papie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alternatívnych investíc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ejný š.p.f. nehnuteľ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Špeciálne podielové fondy profesionálnych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Strešné podielové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59480" y="206028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c podfondov v rámci jedn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ôžu sa odlišovať napríklad investičnou stratégi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dnotlivé podfondy sú medzi sebou účtovne oddelen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pora nákladov pri administrácii fondu, nap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ozitárska úscho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kumentácia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pora nákladov a času pri spustení nového produktu (prostredníctvom zmeny štatú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9640" y="1989000"/>
            <a:ext cx="3888000" cy="4319640"/>
            <a:chOff x="539640" y="1989000"/>
            <a:chExt cx="3888000" cy="4319640"/>
          </a:xfrm>
        </p:grpSpPr>
        <p:sp>
          <p:nvSpPr>
            <p:cNvPr id="103" name=""/>
            <p:cNvSpPr/>
            <p:nvPr/>
          </p:nvSpPr>
          <p:spPr>
            <a:xfrm>
              <a:off x="539640" y="1989000"/>
              <a:ext cx="3888000" cy="4319640"/>
            </a:xfrm>
            <a:prstGeom prst="rect">
              <a:avLst/>
            </a:prstGeom>
            <a:noFill/>
            <a:ln w="38160">
              <a:solidFill>
                <a:srgbClr val="0038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" y="1989000"/>
              <a:ext cx="3888000" cy="576360"/>
            </a:xfrm>
            <a:prstGeom prst="rect">
              <a:avLst/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trešný podielový fond XY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4360" y="285264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americký akci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360" y="371628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európsky dlhopis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4360" y="5445000"/>
              <a:ext cx="2303280" cy="720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4581360"/>
              <a:ext cx="2303280" cy="720720"/>
            </a:xfrm>
            <a:prstGeom prst="roundRect">
              <a:avLst>
                <a:gd name="adj" fmla="val 16667"/>
              </a:avLst>
            </a:prstGeom>
            <a:solidFill>
              <a:srgbClr val="0038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odfond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zmiešaný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akciovo-dlhopisový fo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360" y="5805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4360" y="566100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" y="551664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881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Tranže“ podielových listo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59480" y="206028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ielové listy každého fondu alebo podfondu sa môžu rozdeliť do rôznych „tranží“ (druhov) odlišných podľ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kruhu investor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nominačnej  me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šky vstupných a výstupných poplatk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šky odplaty za správ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ôsobu rozdelenia výno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hoda – prispôsobenie produktu rôznym segmentom dopy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989000"/>
            <a:ext cx="3888000" cy="4319640"/>
          </a:xfrm>
          <a:prstGeom prst="rect">
            <a:avLst/>
          </a:prstGeom>
          <a:noFill/>
          <a:ln w="38160">
            <a:solidFill>
              <a:srgbClr val="0038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989000"/>
            <a:ext cx="3888000" cy="576360"/>
          </a:xfrm>
          <a:prstGeom prst="rect">
            <a:avLst/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rešný podielový fond XY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8526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americký akci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14972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európsky dlhopis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5445000"/>
            <a:ext cx="230328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7372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dfond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zmieša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kciovo-dlhopisový fo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0828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21300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CZ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0536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rast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5100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výnos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229360"/>
            <a:ext cx="1008000" cy="43308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3408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0038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Tranža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3881"/>
                </a:solidFill>
                <a:latin typeface="Tahoma"/>
              </a:rPr>
              <a:t>inštitucioná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UCITS fon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rnica IV nemá podstatný vplyv na produktovú reguláciu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avidlá investovania a limity obmedzenia a rozloženia rizika zostávajú zach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oditeľné cenné papiere (akcie, dlhopisy, atď.), nástroje peňažného trhu, CP iných subjektov kolektívneho investovania, vklady, finančné deriváty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ípustná je len forma otvoreného podielového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ý zákon v oblasti UCITS fond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enský UCITS fond – „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Štandardný podielový f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nejšie budú vymedzené fondy peňažného trh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Zavedenie „master-feeder“ štruktú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Fondy peňažného trhu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line CESR (Výbor európskych regulátorov cenných papiero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ícia fondov peňažného trhu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krátkodobý fond peňažného trh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ond peňažného trhu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nd, ktorý nebude spĺňať definíciu, sa nebude môcť označovať alebo predávať ako fond peňažného trhu (prípadne peňažný fon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účasný stav portfólií a potreba lehoty na prispôsob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likácia prostredníctvom zákona a vykonávacieho predpi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User</cp:lastModifiedBy>
  <dcterms:modified xsi:type="dcterms:W3CDTF">2010-10-28T07:16:16Z</dcterms:modified>
  <cp:revision>13</cp:revision>
  <dc:subject/>
  <dc:title>Slide 1</dc:title>
</cp:coreProperties>
</file>