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04A24-23B8-48AA-B592-DF419B9CA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360" y="431748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3F78C-ABDD-4A62-8700-6610A228C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5400" y="206028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8360" y="431748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85400" y="431748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0FC5B-3441-412E-B939-21B2D97D7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50800" y="206028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33240" y="206028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8360" y="431748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50800" y="431748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33240" y="431748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27AB6-AF3C-4422-A72A-147F5B336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DD3BF-EC8C-4F90-A35A-EDE598765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68360" y="2060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94a45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29144-6DEB-4220-9A7F-56B196590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3B7D6-E08D-490D-AF73-671ABD8F5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5400" y="206028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5DCA2-DCEC-4C7C-8143-BBB8ED1D9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2361A-0F0C-4F35-A279-EB76020B4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68360" y="1052640"/>
            <a:ext cx="8229600" cy="39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94a45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B1480-BD20-4B5D-9457-53656FD79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5400" y="206028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8360" y="431748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D0015-18F6-44D4-A1CB-C01803FD5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68360" y="2060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94a45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E9BC6-BDD5-49BB-8742-3073A6F7E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5400" y="206028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5400" y="431748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D5262-0C7A-46C4-9A5F-33CE8397D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5400" y="206028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8360" y="431748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9C20E-8997-43BF-8CA0-553C0A94E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360" y="431748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A56E2-99CA-402F-948F-471C64526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5400" y="206028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8360" y="431748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5400" y="431748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0F3C2-50D2-48A9-8AA5-19BF52A6B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50800" y="206028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33240" y="206028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8360" y="431748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50800" y="431748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33240" y="431748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2012F-EF75-4CC3-870F-592E5367D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87021-60D2-48C3-BF8C-06192F305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400" y="206028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607EA-4CEE-4272-A4AE-B4E7708D8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C4FF8-9EF4-427C-902F-3F0F9A2A7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68360" y="1052640"/>
            <a:ext cx="8229600" cy="39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94a45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ECF6F-62A6-448E-AE37-D168BE910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5400" y="206028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8360" y="431748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C8B50-AADF-4C60-901B-123DA8E53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5400" y="206028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85400" y="431748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FD4E5-A6E1-4655-B040-AB2DD611A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5400" y="206028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360" y="431748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701F9-18FA-40C6-97FB-AC28C33F9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6500880"/>
            <a:ext cx="9144000" cy="357120"/>
          </a:xfrm>
          <a:prstGeom prst="rect">
            <a:avLst/>
          </a:prstGeom>
          <a:solidFill>
            <a:srgbClr val="0038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881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68360" y="2060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343080" indent="-343080">
              <a:spcBef>
                <a:spcPts val="700"/>
              </a:spcBef>
              <a:buClr>
                <a:srgbClr val="003881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343080" indent="-343080">
              <a:spcBef>
                <a:spcPts val="700"/>
              </a:spcBef>
              <a:buClr>
                <a:srgbClr val="9b003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343080" indent="-343080">
              <a:spcBef>
                <a:spcPts val="700"/>
              </a:spcBef>
              <a:buClr>
                <a:srgbClr val="003881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343080" indent="-343080">
              <a:spcBef>
                <a:spcPts val="700"/>
              </a:spcBef>
              <a:buClr>
                <a:srgbClr val="9b003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300360" y="6578640"/>
            <a:ext cx="141300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468360" y="6570720"/>
            <a:ext cx="568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884720" y="6578640"/>
            <a:ext cx="86364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0A6A7-BE86-4562-ABA4-772CD3A305BD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0760" cy="793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d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50560" y="4292640"/>
            <a:ext cx="870876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881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7092720" y="6237360"/>
            <a:ext cx="187308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sk-SK" sz="1200" spc="-1" strike="noStrike">
                <a:solidFill>
                  <a:srgbClr val="494a45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494a45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250920" y="6244920"/>
            <a:ext cx="612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494a45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94a45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0760" cy="40338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8028000" y="6453360"/>
            <a:ext cx="9367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494a45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E8924-20E1-467B-B3FB-B1645480348B}" type="slidenum">
              <a:rPr b="1" lang="en-US" sz="1200" spc="-1" strike="noStrike">
                <a:solidFill>
                  <a:srgbClr val="494a45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94a45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494a45"/>
              </a:solidFill>
              <a:latin typeface="Tahom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9b003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550"/>
              </a:spcBef>
              <a:buClr>
                <a:srgbClr val="003881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9b0030"/>
              </a:buClr>
              <a:buFont typeface="Tahom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regfap.nbs/informacne-povinnost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nbs.sk/sk/dohlad-nad-financnym-trhom/dohlad-nad-financnym-sprostredkovanim-a-financnym-poradenstvom/zosuladovacie-povinnosti" TargetMode="External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regfap.nbs.sk/skusky" TargetMode="External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d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50560" y="4005000"/>
            <a:ext cx="87087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200" spc="-1" strike="noStrike">
                <a:solidFill>
                  <a:srgbClr val="003881"/>
                </a:solidFill>
                <a:latin typeface="Tahoma"/>
              </a:rPr>
              <a:t>Začína skúškové obdobie pre finančných sprostredkovateľov</a:t>
            </a:r>
            <a:r>
              <a:rPr b="0" lang="sk-SK" sz="3200" spc="-1" strike="noStrike">
                <a:solidFill>
                  <a:srgbClr val="003881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250560" y="4797000"/>
            <a:ext cx="87058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46800" anchor="t">
            <a:noAutofit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7f9bc0"/>
                </a:solidFill>
                <a:latin typeface="Tahoma"/>
              </a:rPr>
              <a:t>Ako bezpečne splniť podmienky nového zákona o finančnom sprostredkovaní</a:t>
            </a:r>
            <a:endParaRPr b="1" lang="en-US" sz="1600" spc="-1" strike="noStrike">
              <a:solidFill>
                <a:srgbClr val="494a45"/>
              </a:solidFill>
              <a:latin typeface="Tahoma"/>
            </a:endParaRPr>
          </a:p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7f9bc0"/>
                </a:solidFill>
                <a:latin typeface="Tahoma"/>
              </a:rPr>
              <a:t>a poradenstve, problémy z praxe</a:t>
            </a:r>
            <a:endParaRPr b="1" lang="en-US" sz="1600" spc="-1" strike="noStrike">
              <a:solidFill>
                <a:srgbClr val="494a45"/>
              </a:solidFill>
              <a:latin typeface="Tahoma"/>
            </a:endParaRPr>
          </a:p>
        </p:txBody>
      </p:sp>
      <p:sp>
        <p:nvSpPr>
          <p:cNvPr id="87" name=""/>
          <p:cNvSpPr/>
          <p:nvPr/>
        </p:nvSpPr>
        <p:spPr>
          <a:xfrm>
            <a:off x="179280" y="5805360"/>
            <a:ext cx="9072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4d4d4d"/>
                </a:solidFill>
                <a:latin typeface="Tahoma"/>
              </a:rPr>
              <a:t>5. november 2010 </a:t>
            </a:r>
            <a:r>
              <a:rPr b="1" lang="sk-SK" sz="1400" spc="-1" strike="noStrike">
                <a:solidFill>
                  <a:srgbClr val="4d4d4d"/>
                </a:solidFill>
                <a:latin typeface="Tahoma"/>
              </a:rPr>
              <a:t>	</a:t>
            </a:r>
            <a:r>
              <a:rPr b="1" lang="sk-SK" sz="1400" spc="-1" strike="noStrike">
                <a:solidFill>
                  <a:srgbClr val="4d4d4d"/>
                </a:solidFill>
                <a:latin typeface="Tahoma"/>
              </a:rPr>
              <a:t>	</a:t>
            </a:r>
            <a:r>
              <a:rPr b="1" lang="sk-SK" sz="1400" spc="-1" strike="noStrike">
                <a:solidFill>
                  <a:srgbClr val="4d4d4d"/>
                </a:solidFill>
                <a:latin typeface="Tahoma"/>
              </a:rPr>
              <a:t>	</a:t>
            </a:r>
            <a:r>
              <a:rPr b="1" lang="sk-SK" sz="1400" spc="-1" strike="noStrike">
                <a:solidFill>
                  <a:srgbClr val="4d4d4d"/>
                </a:solidFill>
                <a:latin typeface="Tahoma"/>
              </a:rPr>
              <a:t>	</a:t>
            </a:r>
            <a:r>
              <a:rPr b="1" lang="sk-SK" sz="1400" spc="-1" strike="noStrike">
                <a:solidFill>
                  <a:srgbClr val="4d4d4d"/>
                </a:solidFill>
                <a:latin typeface="Tahoma"/>
              </a:rPr>
              <a:t>	</a:t>
            </a:r>
            <a:r>
              <a:rPr b="1" lang="sk-SK" sz="1400" spc="-1" strike="noStrike">
                <a:solidFill>
                  <a:srgbClr val="4d4d4d"/>
                </a:solidFill>
                <a:latin typeface="Tahoma"/>
              </a:rPr>
              <a:t>	</a:t>
            </a:r>
            <a:r>
              <a:rPr b="1" lang="sk-SK" sz="1400" spc="-1" strike="noStrike">
                <a:solidFill>
                  <a:srgbClr val="4d4d4d"/>
                </a:solidFill>
                <a:latin typeface="Tahoma"/>
              </a:rPr>
              <a:t>Slavomír Šťastn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4d4d4d"/>
                </a:solidFill>
                <a:latin typeface="Tahoma"/>
              </a:rPr>
              <a:t>Hotel GRAND, Vysoké Tatry</a:t>
            </a:r>
            <a:r>
              <a:rPr b="1" lang="sk-SK" sz="1400" spc="-1" strike="noStrike">
                <a:solidFill>
                  <a:srgbClr val="4d4d4d"/>
                </a:solidFill>
                <a:latin typeface="Tahoma"/>
              </a:rPr>
              <a:t>	</a:t>
            </a:r>
            <a:r>
              <a:rPr b="1" lang="sk-SK" sz="1400" spc="-1" strike="noStrike">
                <a:solidFill>
                  <a:srgbClr val="4d4d4d"/>
                </a:solidFill>
                <a:latin typeface="Tahoma"/>
              </a:rPr>
              <a:t>	</a:t>
            </a:r>
            <a:r>
              <a:rPr b="1" lang="sk-SK" sz="1400" spc="-1" strike="noStrike">
                <a:solidFill>
                  <a:srgbClr val="4d4d4d"/>
                </a:solidFill>
                <a:latin typeface="Tahoma"/>
              </a:rPr>
              <a:t>	</a:t>
            </a:r>
            <a:r>
              <a:rPr b="1" lang="sk-SK" sz="1400" spc="-1" strike="noStrike">
                <a:solidFill>
                  <a:srgbClr val="4d4d4d"/>
                </a:solidFill>
                <a:latin typeface="Tahoma"/>
              </a:rPr>
              <a:t>	</a:t>
            </a:r>
            <a:r>
              <a:rPr b="1" lang="sk-SK" sz="1400" spc="-1" strike="noStrike">
                <a:solidFill>
                  <a:srgbClr val="4d4d4d"/>
                </a:solidFill>
                <a:latin typeface="Tahoma"/>
              </a:rPr>
              <a:t>	</a:t>
            </a:r>
            <a:r>
              <a:rPr b="1" lang="sk-SK" sz="1400" spc="-1" strike="noStrike">
                <a:solidFill>
                  <a:srgbClr val="4d4d4d"/>
                </a:solidFill>
                <a:latin typeface="Tahoma"/>
              </a:rPr>
              <a:t>Národná banka Slovensk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24000" y="1052280"/>
            <a:ext cx="8686800" cy="54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2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000" spc="-1" strike="noStrike">
                <a:solidFill>
                  <a:srgbClr val="003881"/>
                </a:solidFill>
                <a:latin typeface="Tahoma"/>
              </a:rPr>
              <a:t>Špecifické pravidlá pre kapitálový trh (§37)</a:t>
            </a:r>
            <a:endParaRPr b="1" lang="en-US" sz="30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8360" y="1785960"/>
            <a:ext cx="8136000" cy="48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Finančný agent v sektore kapitálového trhu nie je oprávnený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700" spc="-1" strike="noStrike">
                <a:solidFill>
                  <a:srgbClr val="000000"/>
                </a:solidFill>
                <a:latin typeface="Tahoma"/>
              </a:rPr>
              <a:t>poskytovať inú investičnú službu ako </a:t>
            </a:r>
            <a:r>
              <a:rPr b="1" lang="sk-SK" sz="1700" spc="-1" strike="noStrike">
                <a:solidFill>
                  <a:srgbClr val="000000"/>
                </a:solidFill>
                <a:latin typeface="Tahoma"/>
              </a:rPr>
              <a:t>prijatie a postúpenie pokynu</a:t>
            </a:r>
            <a:r>
              <a:rPr b="0" lang="sk-SK" sz="1700" spc="-1" strike="noStrike">
                <a:solidFill>
                  <a:srgbClr val="000000"/>
                </a:solidFill>
                <a:latin typeface="Tahoma"/>
              </a:rPr>
              <a:t> a </a:t>
            </a:r>
            <a:r>
              <a:rPr b="1" lang="sk-SK" sz="1700" spc="-1" strike="noStrike">
                <a:solidFill>
                  <a:srgbClr val="000000"/>
                </a:solidFill>
                <a:latin typeface="Tahoma"/>
              </a:rPr>
              <a:t>investičné poradenstvo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700" spc="-1" strike="noStrike">
                <a:solidFill>
                  <a:srgbClr val="000000"/>
                </a:solidFill>
                <a:latin typeface="Tahoma"/>
              </a:rPr>
              <a:t>prijímať peňažné prostriedky alebo finančné nástroje klientov, t.j. </a:t>
            </a:r>
            <a:r>
              <a:rPr b="1" lang="sk-SK" sz="1700" spc="-1" strike="noStrike">
                <a:solidFill>
                  <a:srgbClr val="000000"/>
                </a:solidFill>
                <a:latin typeface="Tahoma"/>
              </a:rPr>
              <a:t>nesmie inkasovať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Na finančného agenta v sektore KT sa </a:t>
            </a:r>
            <a:r>
              <a:rPr b="0" lang="sk-SK" sz="2400" spc="-1" strike="noStrike" u="sng">
                <a:solidFill>
                  <a:srgbClr val="000000"/>
                </a:solidFill>
                <a:uFillTx/>
                <a:latin typeface="Tahoma"/>
              </a:rPr>
              <a:t>nevzťahujú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700" spc="-1" strike="noStrike">
                <a:solidFill>
                  <a:srgbClr val="000000"/>
                </a:solidFill>
                <a:latin typeface="Tahoma"/>
              </a:rPr>
              <a:t>všeobecné pravidlá (§ 28),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700" spc="-1" strike="noStrike">
                <a:solidFill>
                  <a:srgbClr val="000000"/>
                </a:solidFill>
                <a:latin typeface="Tahoma"/>
              </a:rPr>
              <a:t>oprávnenie získavať osobné údaje  a iné informácie (§ 31),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700" spc="-1" strike="noStrike">
                <a:solidFill>
                  <a:srgbClr val="000000"/>
                </a:solidFill>
                <a:latin typeface="Tahoma"/>
              </a:rPr>
              <a:t>Pravidlá pre poplatky a provízie (§ 32),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700" spc="-1" strike="noStrike">
                <a:solidFill>
                  <a:srgbClr val="000000"/>
                </a:solidFill>
                <a:latin typeface="Tahoma"/>
              </a:rPr>
              <a:t>Pravidlá pre posudzovanie klientov (§ 35),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700" spc="-1" strike="noStrike">
                <a:solidFill>
                  <a:srgbClr val="000000"/>
                </a:solidFill>
                <a:latin typeface="Tahoma"/>
              </a:rPr>
              <a:t>Pravidlá pre vedenie záznamov (§ 36 ods. 1 až 6)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284c6a"/>
                </a:solidFill>
                <a:latin typeface="Tahoma"/>
              </a:rPr>
              <a:t>Vzťahujú sa pravidlá zo ZoCP! - MiFI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Slide Number Placeholder 7"/>
          <p:cNvSpPr/>
          <p:nvPr/>
        </p:nvSpPr>
        <p:spPr>
          <a:xfrm>
            <a:off x="7238880" y="662940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F5451-BBC4-47E0-86DE-6F8FAE01B365}" type="slidenum">
              <a:rPr b="1" lang="sk-SK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2080B-EC06-43AB-BEE4-7B00B1935B7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400" spc="-1" strike="noStrike">
                <a:solidFill>
                  <a:srgbClr val="003881"/>
                </a:solidFill>
                <a:latin typeface="Tahoma"/>
              </a:rPr>
              <a:t>Informačná povinnosť voči NBS</a:t>
            </a:r>
            <a:endParaRPr b="1" lang="en-US" sz="34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Zmeny údajov používaných v licenčnom konaní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Správy vedúceho zamestnanc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Výkazy o vykonávaní činnost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Zmluvy s finančnými inštitúciam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Vnútorné predpis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 u="sng">
                <a:solidFill>
                  <a:srgbClr val="7f9bc0"/>
                </a:solidFill>
                <a:uFillTx/>
                <a:latin typeface="Tahoma"/>
                <a:hlinkClick r:id="rId1"/>
              </a:rPr>
              <a:t>http://regfap.nbs/informacne-povinnost</a:t>
            </a: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 - pripravuje s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F2243-CF8E-4DC5-AEEC-EB906D0CF09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3881"/>
                </a:solidFill>
                <a:latin typeface="Tahoma"/>
              </a:rPr>
              <a:t>Preukazovanie zosúlaďovania</a:t>
            </a: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Podriadené subjekty preukazujú nadriadeným (správcovská spoločnosť, resp. samostatný finančný age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Samostatní finanční agenti preukazujú NB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Elektronicky prostredníctvom internetovej aplikácie NBS (vybrané dokumenty písomne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Spustenie v priebehu decembr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Prihlasovacie meno a heslo pridelené NB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 u="sng">
                <a:solidFill>
                  <a:srgbClr val="7f9bc0"/>
                </a:solidFill>
                <a:uFillTx/>
                <a:latin typeface="Tahoma"/>
                <a:hlinkClick r:id="rId1"/>
              </a:rPr>
              <a:t>http://www.nbs.sk/sk/dohlad-nad-financnym-trhom/dohlad-nad-financnym-sprostredkovanim-a-financnym-poradenstvom/zosuladovacie-povinnost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ABC31-4D6F-4484-AB57-1F04AEA56D4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3881"/>
                </a:solidFill>
                <a:latin typeface="Tahoma"/>
              </a:rPr>
              <a:t>Odborné skúšk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D07F3-45C1-49ED-8486-86197CFA37D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3881"/>
                </a:solidFill>
                <a:latin typeface="Tahoma"/>
              </a:rPr>
              <a:t>Odborná skúška a stupne odbornej spôsobilosti</a:t>
            </a: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podľa zákona odbornú skúšku musia zložiť osoby, na ktoré sa vzťahuj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Tahoma"/>
              </a:rPr>
              <a:t>stredný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 (odborná skúšk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Tahoma"/>
              </a:rPr>
              <a:t>vyšší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 (odborná skúšk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Tahoma"/>
              </a:rPr>
              <a:t>najvyšší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 (odborná skúška s certifikáto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stupeň odbornej spôsobilost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A32EE-86D6-40AD-B831-93FFE744566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3881"/>
                </a:solidFill>
                <a:latin typeface="Tahoma"/>
              </a:rPr>
              <a:t>Kto má povinnosť vykonať skúšku?</a:t>
            </a: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podriadení finanční agent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samostatní finanční agent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+ ich zamestnanci</a:t>
            </a: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finanční poradcovia</a:t>
            </a: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+ ich zamestnanci</a:t>
            </a: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Ak ide o právnickú osobu, skúšku vykonáva štatutár, resp. vedúci zamestnanec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200" spc="-1" strike="noStrike">
                <a:solidFill>
                  <a:srgbClr val="000000"/>
                </a:solidFill>
                <a:latin typeface="Tahoma"/>
              </a:rPr>
              <a:t>Skúšku je potrebné opakovať každé štyri rok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2CFF0-4C5C-4061-9D5C-EA9A2ACFC1B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3881"/>
                </a:solidFill>
                <a:latin typeface="Tahoma"/>
              </a:rPr>
              <a:t>Forma skúšky</a:t>
            </a: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500" spc="-1" strike="noStrike">
                <a:solidFill>
                  <a:srgbClr val="000000"/>
                </a:solidFill>
                <a:latin typeface="Tahoma"/>
              </a:rPr>
              <a:t>Odborná skúška - pre stredný a vyšší stupeň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300" spc="-1" strike="noStrike">
                <a:solidFill>
                  <a:srgbClr val="000000"/>
                </a:solidFill>
                <a:latin typeface="Tahoma"/>
              </a:rPr>
              <a:t>len písomne (resp. elektronicky)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300" spc="-1" strike="noStrike">
                <a:solidFill>
                  <a:srgbClr val="000000"/>
                </a:solidFill>
                <a:latin typeface="Tahoma"/>
              </a:rPr>
              <a:t>všetky otázky testovou formou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300" spc="-1" strike="noStrike">
                <a:solidFill>
                  <a:srgbClr val="000000"/>
                </a:solidFill>
                <a:latin typeface="Tahoma"/>
              </a:rPr>
              <a:t>30 otázok, požadovaná úspešnosť 80% (24 otázok)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300" spc="-1" strike="noStrike">
                <a:solidFill>
                  <a:srgbClr val="000000"/>
                </a:solidFill>
                <a:latin typeface="Tahoma"/>
              </a:rPr>
              <a:t>stanovený čas je 40 minút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500" spc="-1" strike="noStrike">
                <a:solidFill>
                  <a:srgbClr val="000000"/>
                </a:solidFill>
                <a:latin typeface="Tahoma"/>
              </a:rPr>
              <a:t>Odborná skúška s certifikátom – pre najvyšší stupeň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300" spc="-1" strike="noStrike">
                <a:solidFill>
                  <a:srgbClr val="000000"/>
                </a:solidFill>
                <a:latin typeface="Tahoma"/>
              </a:rPr>
              <a:t>písomná časť – zhodná so skúškou na vyšší stupeň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300" spc="-1" strike="noStrike">
                <a:solidFill>
                  <a:srgbClr val="000000"/>
                </a:solidFill>
                <a:latin typeface="Tahoma"/>
              </a:rPr>
              <a:t>ústna časť – po úspešnom absolvovaní písomnej časti skúšky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D8E24-3DFA-4AC7-8DE4-76FB0AD2E6B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3881"/>
                </a:solidFill>
                <a:latin typeface="Tahoma"/>
              </a:rPr>
              <a:t>Otázky na skúšku –</a:t>
            </a:r>
            <a:br>
              <a:rPr sz="3600"/>
            </a:br>
            <a:r>
              <a:rPr b="1" lang="sk-SK" sz="3600" spc="-1" strike="noStrike">
                <a:solidFill>
                  <a:srgbClr val="003881"/>
                </a:solidFill>
                <a:latin typeface="Tahoma"/>
              </a:rPr>
              <a:t>písomná časť</a:t>
            </a: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11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500" spc="-1" strike="noStrike">
                <a:solidFill>
                  <a:srgbClr val="000000"/>
                </a:solidFill>
                <a:latin typeface="Tahoma"/>
              </a:rPr>
              <a:t>otázky nadväzujú na okruhy osobitného finančného vzdelávania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11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500" spc="-1" strike="noStrike">
                <a:solidFill>
                  <a:srgbClr val="000000"/>
                </a:solidFill>
                <a:latin typeface="Tahoma"/>
              </a:rPr>
              <a:t>rozdelené sú podľa sektora aj stupňa náročnosti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11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500" spc="-1" strike="noStrike">
                <a:solidFill>
                  <a:srgbClr val="000000"/>
                </a:solidFill>
                <a:latin typeface="Tahoma"/>
              </a:rPr>
              <a:t>pre každý sektor je vytvorených viac ako 200 otázok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11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500" spc="-1" strike="noStrike">
                <a:solidFill>
                  <a:srgbClr val="000000"/>
                </a:solidFill>
                <a:latin typeface="Tahoma"/>
              </a:rPr>
              <a:t>každý test je tvorený 5 otázkami zo všeobecných znalostí finančného trhu a 25 otázkami zo sektora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11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500" spc="-1" strike="noStrike">
                <a:solidFill>
                  <a:srgbClr val="000000"/>
                </a:solidFill>
                <a:latin typeface="Tahoma"/>
              </a:rPr>
              <a:t>všetky otázky spolu s odpoveďami, vrátane vyznačenej správnej odpovede, sú </a:t>
            </a:r>
            <a:r>
              <a:rPr b="1" lang="sk-SK" sz="2500" spc="-1" strike="noStrike">
                <a:solidFill>
                  <a:srgbClr val="000000"/>
                </a:solidFill>
                <a:latin typeface="Tahoma"/>
              </a:rPr>
              <a:t>zverejnené </a:t>
            </a:r>
            <a:r>
              <a:rPr b="0" lang="sk-SK" sz="2500" spc="-1" strike="noStrike">
                <a:solidFill>
                  <a:srgbClr val="000000"/>
                </a:solidFill>
                <a:latin typeface="Tahoma"/>
              </a:rPr>
              <a:t>na webe NBS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C65E7-EADB-4BA1-9BF8-12797A4018F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3881"/>
                </a:solidFill>
                <a:latin typeface="Tahoma"/>
              </a:rPr>
              <a:t>Otázky na skúšku – </a:t>
            </a:r>
            <a:br>
              <a:rPr sz="3600"/>
            </a:br>
            <a:r>
              <a:rPr b="1" lang="sk-SK" sz="3600" spc="-1" strike="noStrike">
                <a:solidFill>
                  <a:srgbClr val="003881"/>
                </a:solidFill>
                <a:latin typeface="Tahoma"/>
              </a:rPr>
              <a:t>ústna časť</a:t>
            </a: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500" spc="-1" strike="noStrike">
                <a:solidFill>
                  <a:srgbClr val="000000"/>
                </a:solidFill>
                <a:latin typeface="Tahoma"/>
              </a:rPr>
              <a:t>otázky sa nezverejňujú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500" spc="-1" strike="noStrike">
                <a:solidFill>
                  <a:srgbClr val="000000"/>
                </a:solidFill>
                <a:latin typeface="Tahoma"/>
              </a:rPr>
              <a:t>otázky vychádzajú z okruhov definovaných v prílohe opatrenia NBS č. 9/2010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500" spc="-1" strike="noStrike">
                <a:solidFill>
                  <a:srgbClr val="000000"/>
                </a:solidFill>
                <a:latin typeface="Tahoma"/>
              </a:rPr>
              <a:t>záujem je preveriť vedomosti uchádzačov aj prostredníctvom riešenia prípadových štúdií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skúšobná komisia bude mať k dispozícii tzv. „vzorové odpovede“ na jednotlivé otázk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087E5-3E48-410A-B5CD-0F8BB033778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3881"/>
                </a:solidFill>
                <a:latin typeface="Tahoma"/>
              </a:rPr>
              <a:t>Organizácia skúšok</a:t>
            </a: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NBS poverila organizovaním skúšok pre stredný a vyšší stupeň externých organizátoro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pre stredný stupeň: SBA, SLASPO, AOCP, AFISP, IB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pre vyšší stupeň: IB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pre najvyšší stupeň zabezpečí skúšky NBS vo vlastnej réži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každý organizátor má poverenie vykonávať skúšky zo všetkých sektorov finančného trh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uchádzač o vykonanie skúšky si môže zvoliť, u ktorého organizátora skúšku vykoná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38AF4-FC5F-4342-9D86-E068E1237B7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sk-SK" sz="1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3881"/>
                </a:solidFill>
                <a:latin typeface="Tahoma"/>
              </a:rPr>
              <a:t>Čo znamená zosúladiť sa so zákono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3881"/>
                </a:solidFill>
                <a:latin typeface="Tahoma"/>
              </a:rPr>
              <a:t>Odborné skúšk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3881"/>
                </a:solidFill>
                <a:latin typeface="Tahoma"/>
              </a:rPr>
              <a:t>Časté otázky dohliadaných subjekto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E4C4F-A53B-4BE2-9829-5635C93B979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3881"/>
                </a:solidFill>
                <a:latin typeface="Tahoma"/>
              </a:rPr>
              <a:t>Prihlasovanie na skúšky</a:t>
            </a: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uchádzač sa prihlási u ním zvoleného organizátora skúšky, a to určeným spôsobom a v stanovenom termí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skúšky pre stredný a vyšší stupeň už prebiehajú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pre najvyšší stupeň plánuje NBS do konca tohto roka vyhlásiť 2 termíny (predpoklad je decemb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0F7C1-32C4-4555-BF0B-4C31C142DDC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3881"/>
                </a:solidFill>
                <a:latin typeface="Tahoma"/>
              </a:rPr>
              <a:t>Skúšky a NBS</a:t>
            </a: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informácie o skúškac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 u="sng">
                <a:solidFill>
                  <a:srgbClr val="7f9bc0"/>
                </a:solidFill>
                <a:uFillTx/>
                <a:latin typeface="Tahoma"/>
                <a:hlinkClick r:id="rId1"/>
              </a:rPr>
              <a:t>http://regfap.nbs.sk/skus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49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600" spc="-1" strike="noStrike">
                <a:solidFill>
                  <a:srgbClr val="000000"/>
                </a:solidFill>
                <a:latin typeface="Tahoma"/>
              </a:rPr>
              <a:t>organizátori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49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600" spc="-1" strike="noStrike">
                <a:solidFill>
                  <a:srgbClr val="000000"/>
                </a:solidFill>
                <a:latin typeface="Tahoma"/>
              </a:rPr>
              <a:t>termíny všetkých skúšok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49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600" spc="-1" strike="noStrike">
                <a:solidFill>
                  <a:srgbClr val="000000"/>
                </a:solidFill>
                <a:latin typeface="Tahoma"/>
              </a:rPr>
              <a:t>skúšané sekto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49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600" spc="-1" strike="noStrike">
                <a:solidFill>
                  <a:srgbClr val="000000"/>
                </a:solidFill>
                <a:latin typeface="Tahoma"/>
              </a:rPr>
              <a:t>otázky na skúšku pre každý termín – zohľadnenie zmien legislatív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49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600" spc="-1" strike="noStrike">
                <a:solidFill>
                  <a:srgbClr val="000000"/>
                </a:solidFill>
                <a:latin typeface="Tahoma"/>
              </a:rPr>
              <a:t>cvičné test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0A146-4E46-4276-B009-C36C9C44935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3881"/>
                </a:solidFill>
                <a:latin typeface="Tahoma"/>
              </a:rPr>
              <a:t>Cvičné testy na webe NBS</a:t>
            </a: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zostavené z otázok aktuálnych pre vybraný termín skúšk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možnosť zvoliť sektor aj stupeň náročnost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sledovanie uplynulého čas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automatické vyhodnotenie test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cca 800 ukončených testov denne (maximum 1500 den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2FB3D-1215-4508-A3D9-96E966046ED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3881"/>
                </a:solidFill>
                <a:latin typeface="Tahoma"/>
              </a:rPr>
              <a:t>Cvičné testy NBS – údaje k 25.10.2010</a:t>
            </a:r>
            <a:endParaRPr b="1" lang="en-US" sz="28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619280" y="1897200"/>
            <a:ext cx="5977080" cy="4510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EEBB1-2255-41F0-9380-1E365E1DAAA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3881"/>
                </a:solidFill>
                <a:latin typeface="Tahoma"/>
              </a:rPr>
              <a:t>Poplatky za skúšky</a:t>
            </a: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Opatrenie NBS č. 9/2010 určuje poplatky za skúšku takt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stredný stupeň a vyšší stupeň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30 eur za sek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najvyšší stupeň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písomná časť: 30 eur za sek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ústna časť: 60 eur za sek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31426-869C-4094-9C09-840B0B2461C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3881"/>
                </a:solidFill>
                <a:latin typeface="Tahoma"/>
              </a:rPr>
              <a:t>Prechodné ustanovenia zákona a odborné skúšky</a:t>
            </a: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Zákonné lehoty na splnenie požiadaviek odbornej spôsobilosti pre osoby, ktoré osoby, ktoré už vykonávajú činnosť sú nasledovné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Tahoma"/>
              </a:rPr>
              <a:t>podriadení finanční agenti</a:t>
            </a:r>
            <a:r>
              <a:rPr b="0" lang="sk-SK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k-SK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k-SK" sz="1800" spc="-1" strike="noStrike">
                <a:solidFill>
                  <a:srgbClr val="000000"/>
                </a:solidFill>
                <a:latin typeface="Tahoma"/>
              </a:rPr>
              <a:t>do 30.9.201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Tahoma"/>
              </a:rPr>
              <a:t>samostatní finanční agenti</a:t>
            </a:r>
            <a:r>
              <a:rPr b="0" lang="sk-SK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k-SK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k-SK" sz="1800" spc="-1" strike="noStrike">
                <a:solidFill>
                  <a:srgbClr val="000000"/>
                </a:solidFill>
                <a:latin typeface="Tahoma"/>
              </a:rPr>
              <a:t>do 31.12.201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Tahoma"/>
              </a:rPr>
              <a:t>ich zamestnanci</a:t>
            </a:r>
            <a:r>
              <a:rPr b="0" lang="sk-SK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k-SK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k-SK" sz="1800" spc="-1" strike="noStrike">
                <a:solidFill>
                  <a:srgbClr val="000000"/>
                </a:solidFill>
                <a:latin typeface="Tahoma"/>
              </a:rPr>
              <a:t>do 30.9.201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Tahoma"/>
              </a:rPr>
              <a:t>finanční poradcovia</a:t>
            </a:r>
            <a:r>
              <a:rPr b="0" lang="sk-SK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k-SK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k-SK" sz="1800" spc="-1" strike="noStrike">
                <a:solidFill>
                  <a:srgbClr val="000000"/>
                </a:solidFill>
                <a:latin typeface="Tahoma"/>
              </a:rPr>
              <a:t>do 31.3.201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Tahoma"/>
              </a:rPr>
              <a:t>ich zamestnanci</a:t>
            </a:r>
            <a:r>
              <a:rPr b="0" lang="sk-SK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k-SK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k-SK" sz="1800" spc="-1" strike="noStrike">
                <a:solidFill>
                  <a:srgbClr val="000000"/>
                </a:solidFill>
                <a:latin typeface="Tahoma"/>
              </a:rPr>
              <a:t>do 31.12.201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Na účely zákona o finančnom sprostredkovaní a poradenstve skúšky vykonané podľa doterajších predpisov </a:t>
            </a:r>
            <a:r>
              <a:rPr b="1" lang="sk-SK" sz="2000" spc="-1" strike="noStrike">
                <a:solidFill>
                  <a:srgbClr val="000000"/>
                </a:solidFill>
                <a:latin typeface="Tahoma"/>
              </a:rPr>
              <a:t>neplati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D0609-64A5-471F-9CC8-1CF0F52BBD9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3881"/>
                </a:solidFill>
                <a:latin typeface="Tahoma"/>
              </a:rPr>
              <a:t>Regulácia odborných skúšok</a:t>
            </a: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§ 21 a 22 zákona o finančnom sprostredkovaní a poradenst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Opatrenie NBS č. 9/2010 o odbornej skúške a odbornej skúške s certifikátom na účely zákona o finančnom sprostredkovaní a finančnom poradenst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Skúšobný poriado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1CA39-F0DA-4888-8005-D8772AE6D321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3881"/>
                </a:solidFill>
                <a:latin typeface="Tahoma"/>
              </a:rPr>
              <a:t>Príklad otázok</a:t>
            </a: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500" spc="-1" strike="noStrike">
                <a:solidFill>
                  <a:srgbClr val="000000"/>
                </a:solidFill>
                <a:latin typeface="Tahoma"/>
              </a:rPr>
              <a:t>Ktoré podielové fondy ukladajú väčšinu svojich aktív do podielových listov a akcií iných investičných fondov?</a:t>
            </a: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900" spc="-1" strike="noStrike">
                <a:solidFill>
                  <a:srgbClr val="000000"/>
                </a:solidFill>
                <a:latin typeface="Tahoma"/>
              </a:rPr>
              <a:t>a) fondy fondov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900" spc="-1" strike="noStrike">
                <a:solidFill>
                  <a:srgbClr val="000000"/>
                </a:solidFill>
                <a:latin typeface="Tahoma"/>
              </a:rPr>
              <a:t>b) dlhopisové fondy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900" spc="-1" strike="noStrike">
                <a:solidFill>
                  <a:srgbClr val="000000"/>
                </a:solidFill>
                <a:latin typeface="Tahoma"/>
              </a:rPr>
              <a:t>c) akciové fondy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80F31-207E-4FF3-9900-CDE54CAEA57B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3881"/>
                </a:solidFill>
                <a:latin typeface="Tahoma"/>
              </a:rPr>
              <a:t>Časté otázky dohliadaných subjektov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0D9FA-BDED-48BA-9DF1-E7EFAD953201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68360" y="112500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28120" indent="-5281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Ak chce SFA zabezpečovať osobitné finančné vzdelávanie PFA, musí mať vo výpise z OR v predmete činnosti aj vzdelávanie, ak si toto vzdelávanie nefakturuje voči PFA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8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8120" indent="-5281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Môže byť vedúci zamestnanec a štatutár tá istá osoba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8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8120" indent="-5281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Pravidlá pre preukazovanie odbornej spôsobilosti subjektov, ktoré začnú činnosť vykonávať v roku 2011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8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8120" indent="-5281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Môže finančný sprostredkovateľ z iného členského štátu registrovať „svojho“ PFA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8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8120" indent="-5281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Zverejňovanie provízií / odmien. Kto je povinný zverejňovať / na požiadanie / odmeny? Aké pravidlá platia pre SFA, PFA, zamestnanca SFA? Je potrebné dokladovať výšku odmeny v prípade jej oznámenia klientovi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48472-72FD-43B3-AFFE-23B174262CFB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3881"/>
                </a:solidFill>
                <a:latin typeface="Tahoma"/>
              </a:rPr>
              <a:t>Zosúlaďovanie</a:t>
            </a: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ahoma"/>
              </a:rPr>
              <a:t>Oprávnenie na činnosť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5000"/>
              </a:lnSpc>
              <a:spcBef>
                <a:spcPts val="300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Tahoma"/>
              </a:rPr>
              <a:t>Povolenie/registráci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ahoma"/>
              </a:rPr>
              <a:t>Odborná spôsobilosť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ahoma"/>
              </a:rPr>
              <a:t>Dôveryhodnosť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ahoma"/>
              </a:rPr>
              <a:t>Organizačné požiadavky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5000"/>
              </a:lnSpc>
              <a:spcBef>
                <a:spcPts val="300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Tahoma"/>
              </a:rPr>
              <a:t>Vnútorné predpisy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5000"/>
              </a:lnSpc>
              <a:spcBef>
                <a:spcPts val="300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Tahoma"/>
              </a:rPr>
              <a:t>Vedúci zamestnanec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5000"/>
              </a:lnSpc>
              <a:spcBef>
                <a:spcPts val="300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Tahoma"/>
              </a:rPr>
              <a:t>Konflikt záujmov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ahoma"/>
              </a:rPr>
              <a:t>Conduct of business rule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ahoma"/>
              </a:rPr>
              <a:t>Zodpovednosť za škodu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ahoma"/>
              </a:rPr>
              <a:t>Zverejňovanie provízií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ahoma"/>
              </a:rPr>
              <a:t>Poskytovanie informácií klientovi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ahoma"/>
              </a:rPr>
              <a:t>Posudzovanie klientov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ahoma"/>
              </a:rPr>
              <a:t>Archiváci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ahoma"/>
              </a:rPr>
              <a:t>Informačná povinnosť voči NB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0000"/>
                </a:solidFill>
                <a:latin typeface="Tahoma"/>
              </a:rPr>
              <a:t>Termín: 31.12.201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5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ahoma"/>
              </a:rPr>
              <a:t>výnimkou je odborná spôsobilosť, kde sú lehoty </a:t>
            </a:r>
            <a:r>
              <a:rPr b="1" lang="sk-SK" sz="1400" spc="-1" strike="noStrike">
                <a:solidFill>
                  <a:srgbClr val="000000"/>
                </a:solidFill>
                <a:latin typeface="Tahoma"/>
              </a:rPr>
              <a:t>predĺžené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73DBB-6D92-4D1E-AE5A-0BD897EB670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68360" y="1844280"/>
            <a:ext cx="799128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3881"/>
                </a:solidFill>
                <a:latin typeface="Tahoma"/>
              </a:rPr>
              <a:t>Ďakujem za pozornosť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5661000"/>
            <a:ext cx="9144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8b8c8e"/>
                </a:solidFill>
                <a:latin typeface="Tahoma"/>
              </a:rPr>
              <a:t>slavomir.stastny@nbs.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037C2-8D16-4D91-BB9C-E05746304C41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3881"/>
                </a:solidFill>
                <a:latin typeface="Tahoma"/>
              </a:rPr>
              <a:t>Oprávnenie na činnosť</a:t>
            </a: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automatická transformácia „starých oprávnení“ na „nové oprávnenia“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419640" y="3284640"/>
            <a:ext cx="1760400" cy="2952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2390F-78E5-4DBD-AFB9-C446E8F3D9D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3881"/>
                </a:solidFill>
                <a:latin typeface="Tahoma"/>
              </a:rPr>
              <a:t>Oprávnenie na činnosť</a:t>
            </a: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Osoby, ktoré pred 1.1.2010 spolupracovali so sprostredkovateľom IS a majú záujem vykonávať činnosť aj po 1.1.2011 musia byť do 31.12.2010 </a:t>
            </a:r>
            <a:r>
              <a:rPr b="1" lang="sk-SK" sz="2400" spc="-1" strike="noStrike">
                <a:solidFill>
                  <a:srgbClr val="000000"/>
                </a:solidFill>
                <a:latin typeface="Tahoma"/>
              </a:rPr>
              <a:t>zaregistrované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"/>
          <p:cNvSpPr/>
          <p:nvPr/>
        </p:nvSpPr>
        <p:spPr>
          <a:xfrm>
            <a:off x="3637080" y="3789360"/>
            <a:ext cx="1584360" cy="86364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429080" y="465300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637080" y="5445000"/>
            <a:ext cx="1800000" cy="86364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708360" y="3860640"/>
            <a:ext cx="144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708360" y="3860640"/>
            <a:ext cx="1440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Osoba spolupracujúca so 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708360" y="5516640"/>
            <a:ext cx="1584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Podriadený finančný agent v sektore K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500720" y="4797360"/>
            <a:ext cx="12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registrác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03387-FA54-4BC4-9D6A-0EC43815D61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3881"/>
                </a:solidFill>
                <a:latin typeface="Tahoma"/>
              </a:rPr>
              <a:t>Oprávnenie na činnosť</a:t>
            </a: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Ak má správcovská spoločnosť záujem využívať na distribúciu svojich produktov sprostredkovateľské siete, tieto musia byť zapísané v registri vedenom NB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3348000" y="3429000"/>
            <a:ext cx="2232000" cy="2881440"/>
            <a:chOff x="3348000" y="3429000"/>
            <a:chExt cx="2232000" cy="2881440"/>
          </a:xfrm>
        </p:grpSpPr>
        <p:sp>
          <p:nvSpPr>
            <p:cNvPr id="107" name=""/>
            <p:cNvSpPr/>
            <p:nvPr/>
          </p:nvSpPr>
          <p:spPr>
            <a:xfrm>
              <a:off x="4211640" y="4294080"/>
              <a:ext cx="0" cy="7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419640" y="5086440"/>
              <a:ext cx="1800000" cy="122400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490920" y="3502080"/>
              <a:ext cx="144000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490920" y="3632040"/>
              <a:ext cx="14400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k-SK" sz="1400" spc="-1" strike="noStrike">
                  <a:solidFill>
                    <a:srgbClr val="000000"/>
                  </a:solidFill>
                  <a:latin typeface="Arial"/>
                </a:rPr>
                <a:t>Správcovská spoločnosť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490920" y="5302080"/>
              <a:ext cx="15843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k-SK" sz="1400" spc="-1" strike="noStrike">
                  <a:solidFill>
                    <a:srgbClr val="000000"/>
                  </a:solidFill>
                  <a:latin typeface="Arial"/>
                </a:rPr>
                <a:t>viazaný finančný agent v sektore K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283280" y="4438800"/>
              <a:ext cx="129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k-SK" sz="1800" spc="-1" strike="noStrike">
                  <a:solidFill>
                    <a:srgbClr val="000000"/>
                  </a:solidFill>
                  <a:latin typeface="Arial"/>
                </a:rPr>
                <a:t>registráci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348000" y="3429000"/>
              <a:ext cx="1657440" cy="865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9E921-BF74-4440-9DAD-D2F35E7592D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3881"/>
                </a:solidFill>
                <a:latin typeface="Tahoma"/>
              </a:rPr>
              <a:t>Zákonné požiadavky</a:t>
            </a: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Odborná spôsobilosť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Dôveryhodnosť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Organizačné požiadav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49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600" spc="-1" strike="noStrike">
                <a:solidFill>
                  <a:srgbClr val="000000"/>
                </a:solidFill>
                <a:latin typeface="Tahoma"/>
              </a:rPr>
              <a:t>vnútorné predpis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49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600" spc="-1" strike="noStrike">
                <a:solidFill>
                  <a:srgbClr val="000000"/>
                </a:solidFill>
                <a:latin typeface="Tahoma"/>
              </a:rPr>
              <a:t>vedúci zamestnanec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Conduct of business 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A16F8-A039-402B-BCBD-EF3CFEE133C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3881"/>
                </a:solidFill>
                <a:latin typeface="Tahoma"/>
              </a:rPr>
              <a:t>Organizačné požiadavky </a:t>
            </a:r>
            <a:br>
              <a:rPr sz="3600"/>
            </a:br>
            <a:r>
              <a:rPr b="1" lang="sk-SK" sz="3600" spc="-1" strike="noStrike">
                <a:solidFill>
                  <a:srgbClr val="003881"/>
                </a:solidFill>
                <a:latin typeface="Tahoma"/>
              </a:rPr>
              <a:t>– vedúci zamestnanec</a:t>
            </a: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-282960">
              <a:spcBef>
                <a:spcPts val="649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600" spc="-1" strike="noStrike">
                <a:solidFill>
                  <a:srgbClr val="000000"/>
                </a:solidFill>
                <a:latin typeface="Tahoma"/>
              </a:rPr>
              <a:t>právomoci a povinnosti (§ 25, vnútorný predpis)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49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600" spc="-1" strike="noStrike">
                <a:solidFill>
                  <a:srgbClr val="000000"/>
                </a:solidFill>
                <a:latin typeface="Tahoma"/>
              </a:rPr>
              <a:t>zodpovednosť :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601"/>
              </a:spcBef>
              <a:buClr>
                <a:srgbClr val="9b003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do vnútr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601"/>
              </a:spcBef>
              <a:buClr>
                <a:srgbClr val="9b003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zodpovednosť za podriadené zložk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49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600" spc="-1" strike="noStrike">
                <a:solidFill>
                  <a:srgbClr val="000000"/>
                </a:solidFill>
                <a:latin typeface="Tahoma"/>
              </a:rPr>
              <a:t>reporting: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601"/>
              </a:spcBef>
              <a:buClr>
                <a:srgbClr val="9b003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Správa o plnení povinností kontroly nad podriadenými zložkami (§ 29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601"/>
              </a:spcBef>
              <a:buClr>
                <a:srgbClr val="9b003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Správa o vykonávaní funkcie vedúceho zamestnanc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64CA8-AFA1-432C-8E79-61D42858B92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3881"/>
                </a:solidFill>
                <a:latin typeface="Tahoma"/>
              </a:rPr>
              <a:t>Organizačné požiadavky </a:t>
            </a:r>
            <a:br>
              <a:rPr sz="3600"/>
            </a:br>
            <a:r>
              <a:rPr b="1" lang="sk-SK" sz="3600" spc="-1" strike="noStrike">
                <a:solidFill>
                  <a:srgbClr val="003881"/>
                </a:solidFill>
                <a:latin typeface="Tahoma"/>
              </a:rPr>
              <a:t>– vedúci zamestnanec</a:t>
            </a: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611280" y="2089080"/>
            <a:ext cx="7991280" cy="4364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517EF-CDF8-4A9F-8723-EA7FB9238B1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6T11:54:05Z</dcterms:created>
  <dc:creator>Dana Gergelyová</dc:creator>
  <dc:description/>
  <dc:language>en-US</dc:language>
  <cp:lastModifiedBy>Dana Gergelyová</cp:lastModifiedBy>
  <dcterms:modified xsi:type="dcterms:W3CDTF">2010-10-27T13:48:41Z</dcterms:modified>
  <cp:revision>8</cp:revision>
  <dc:subject/>
  <dc:title>Slide 1</dc:title>
</cp:coreProperties>
</file>