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C1D-0922-40E3-A01D-BB3E1669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58F-3C10-4002-891C-90CAFB7D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230-4E3A-4C09-84C4-4F0899D4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560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768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560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768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EA1-8B1D-44C8-B391-FBECBD33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8343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886-A236-4051-9F63-D18D52B5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560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37680" y="213372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560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37680" y="3049560"/>
            <a:ext cx="247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369-623E-42D1-BF59-06A24CF6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452-3A20-42FE-A0D6-BCAEF80B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CF3-4119-4A54-BC65-63A4DB5A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8343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00B-5AA1-40FF-AFA8-564CEE1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C4F-2AC1-47A8-84DE-07511B3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7320" y="304956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E2A-CC4B-4C89-8D49-E4DEF1FA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7320" y="2133720"/>
            <a:ext cx="375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049560"/>
            <a:ext cx="769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BA9-D2AF-496A-8446-5AACA4E2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1502-BDEE-420C-B708-AD3D41B2BC4A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83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50"/>
              </a:spcBef>
              <a:buClr>
                <a:srgbClr val="ffffff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algn="ctr">
              <a:spcBef>
                <a:spcPts val="400"/>
              </a:spcBef>
              <a:buClr>
                <a:srgbClr val="0732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3" marL="1371600" indent="1440" algn="ctr">
              <a:spcBef>
                <a:spcPts val="400"/>
              </a:spcBef>
              <a:buClr>
                <a:srgbClr val="07326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7326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484280"/>
            <a:ext cx="85838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k-SK" sz="4200" spc="-1" strike="noStrike">
                <a:solidFill>
                  <a:srgbClr val="ffffff"/>
                </a:solidFill>
                <a:latin typeface="Arial"/>
              </a:rPr>
              <a:t>Sme svedkami zásadnej zmeny štruktúry investícií do PF?</a:t>
            </a:r>
            <a:br>
              <a:rPr sz="4200"/>
            </a:br>
            <a:r>
              <a:rPr b="0" i="1" lang="sk-SK" sz="3000" spc="-1" strike="noStrike">
                <a:solidFill>
                  <a:srgbClr val="ffffff"/>
                </a:solidFill>
                <a:latin typeface="Arial"/>
              </a:rPr>
              <a:t>Nové produktové možnosti v praxi K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7696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00"/>
                </a:solidFill>
                <a:latin typeface="Arial"/>
              </a:rPr>
              <a:t>Martin Ďurianči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cc00"/>
                </a:solidFill>
                <a:latin typeface="Arial"/>
              </a:rPr>
              <a:t>Tatra Asse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4221000"/>
            <a:ext cx="8785440" cy="158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Dôvo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24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Výsledky fond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Konkurenčné produkt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Nová legislatíva, non-UCITS fond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7AB-419F-4D4A-A519-4CB422F931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 a zmena </a:t>
            </a: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truktúry investícií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5100480" cy="4273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19640" y="1773000"/>
            <a:ext cx="338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73260"/>
                </a:solidFill>
                <a:latin typeface="Arial"/>
              </a:rPr>
              <a:t>Celkový čistý predaj pri fondoch s predajom nad 1mil</a:t>
            </a:r>
            <a:r>
              <a:rPr b="1" lang="sk-SK" sz="2200" spc="-1" strike="noStrike">
                <a:solidFill>
                  <a:srgbClr val="073260"/>
                </a:solidFill>
                <a:latin typeface="Arial"/>
                <a:ea typeface="Arial"/>
              </a:rPr>
              <a:t>€ za rok :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epozitné/Vklad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lternatívne Investície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Zmieša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907mil</a:t>
            </a:r>
            <a:r>
              <a:rPr b="0" lang="sk-SK" sz="3000" spc="-1" strike="noStrike">
                <a:solidFill>
                  <a:srgbClr val="073260"/>
                </a:solidFill>
                <a:latin typeface="Arial"/>
                <a:ea typeface="Arial"/>
              </a:rPr>
              <a:t>€ (94%)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Akci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Dlhopisov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073260"/>
                </a:solidFill>
                <a:latin typeface="Arial"/>
              </a:rPr>
              <a:t>62mil</a:t>
            </a:r>
            <a:r>
              <a:rPr b="0" lang="sk-SK" sz="3100" spc="-1" strike="noStrike">
                <a:solidFill>
                  <a:srgbClr val="073260"/>
                </a:solidFill>
                <a:latin typeface="Arial"/>
                <a:ea typeface="Arial"/>
              </a:rPr>
              <a:t>€ (6%)</a:t>
            </a:r>
            <a:endParaRPr b="0" lang="en-US" sz="31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9D0-AF56-4FE5-AD41-B980EF2B0E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73260"/>
                </a:solidFill>
                <a:latin typeface="Arial"/>
              </a:rPr>
              <a:t>Európsky trh funguje na extrémnom počte fondov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2922480"/>
            <a:ext cx="6553440" cy="28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42A-ACE6-4665-9D86-036DBD6ECC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28648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73260"/>
                </a:solidFill>
                <a:latin typeface="Arial"/>
              </a:rPr>
              <a:t>Na Slovensku je zaregistrovaných 420 fondov, do koľkých sa reálne investuje?</a:t>
            </a: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92360" y="2879640"/>
            <a:ext cx="5605200" cy="364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63640" y="652464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5F9-4D6B-4473-929C-B8E93BE6B3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04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Klienti potrebujú niekoľko dobrých riešení, nie stovky neodlíšiteľných fondov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inálne riešenia vs </a:t>
            </a:r>
            <a:r>
              <a:rPr b="0" lang="en-US" sz="2800" spc="-1" strike="noStrike">
                <a:solidFill>
                  <a:srgbClr val="07326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ématicky zameran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inančný majetok retailového klienta je nízky, klienti si potrebujú tvoriť finančný majetok a najmä sporiť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0B3-33A8-472C-BA05-8672F567CA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 a zmena </a:t>
            </a: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štruktúry investícií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8200" y="227772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Depozitné/Vkladov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Fondy zamerané na alternatívne aktíva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Realit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 lvl="2" marL="380880">
              <a:spcBef>
                <a:spcPts val="451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Arial"/>
              </a:rPr>
              <a:t>Komoditné fondy</a:t>
            </a:r>
            <a:endParaRPr b="0" lang="en-US" sz="1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Aktívne riadené fondy/Absolute Return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73260"/>
                </a:solidFill>
                <a:latin typeface="Arial"/>
              </a:rPr>
              <a:t>Zaistené fondy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503-E62C-4BE7-BC64-74A56C4962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7772400" cy="22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7400"/>
            </a:br>
            <a:endParaRPr b="1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11280" y="4581360"/>
            <a:ext cx="7696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Martin Ďurianči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Tatra Asset 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Čistý príliv nových investícii do fond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048360" cy="3904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79640" y="609300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938-0C81-4849-B82F-463CEF827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štruktúry investícii v SR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72360" cy="4510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630864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SAS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80F-46B9-43C3-B60E-CB456FC41A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a štruktúry investícii </a:t>
            </a:r>
            <a:r>
              <a:rPr b="1" lang="sk-SK" sz="2600" spc="-1" strike="noStrike">
                <a:solidFill>
                  <a:srgbClr val="073260"/>
                </a:solidFill>
                <a:latin typeface="Arial"/>
              </a:rPr>
              <a:t>(UCITS, Európa)</a:t>
            </a:r>
            <a:endParaRPr b="1" lang="en-US" sz="26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391440" cy="40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616572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EFAMA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C9B-3B88-450F-BA3F-EC788C5F18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4221000"/>
            <a:ext cx="8785440" cy="158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Dôvo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24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Výsledky fondov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Konkurenčné produkt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Nová legislatíva, non-UCITS fondy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73260"/>
              </a:buClr>
              <a:buSzPct val="110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73260"/>
                </a:solidFill>
                <a:latin typeface="Arial"/>
              </a:rPr>
              <a:t>Produktové inovácie</a:t>
            </a:r>
            <a:endParaRPr b="0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37B-0F48-4C32-8275-3C0DA9DF4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5352" t="42078" r="42927" b="17392"/>
          <a:stretch/>
        </p:blipFill>
        <p:spPr>
          <a:xfrm>
            <a:off x="1908000" y="1989000"/>
            <a:ext cx="5328000" cy="3829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79640" y="609300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3366"/>
                </a:solidFill>
                <a:latin typeface="Arial"/>
                <a:ea typeface="Arial"/>
              </a:rPr>
              <a:t>Zdroj : The American Association of Individual Investors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229-8389-451E-AB51-A7E00C561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83640" cy="45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5A3-0786-4830-B99A-6E4D16DC27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657760" cy="401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835280" y="5877000"/>
            <a:ext cx="1800000" cy="12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58A-3A69-4448-B171-AC6C168930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57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Sentiment investorov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5440" cy="3931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6021360"/>
            <a:ext cx="2592360" cy="1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C96-11B9-43D3-89F5-6515B645CA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8:50:05Z</dcterms:created>
  <dc:creator>tb19060</dc:creator>
  <dc:description/>
  <dc:language>en-US</dc:language>
  <cp:lastModifiedBy>atomcalova</cp:lastModifiedBy>
  <cp:lastPrinted>2012-11-08T19:01:55Z</cp:lastPrinted>
  <dcterms:modified xsi:type="dcterms:W3CDTF">2012-11-10T08:19:52Z</dcterms:modified>
  <cp:revision>146</cp:revision>
  <dc:subject/>
  <dc:title>TAM-SmartFund inovatívny prístup správy fondu</dc:title>
</cp:coreProperties>
</file>