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2BA-088C-498A-B68D-F3ACD896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224-DF57-4F8B-8946-0BC5CF7A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FE6-2A9C-426A-A45E-4FD51226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862-FD3C-4FD2-9897-0A295506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63A0-CB0B-4125-9485-53881F27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5049-6B8B-49A8-BBFD-6AE6A16F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F0EA-D980-48FB-AC58-15BE8957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905F-86DC-4ACF-923E-97CE7CC1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1D3D-C56C-44BF-AC64-01FB458C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846E-D6B1-4277-B04F-779CE5E5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E4BB-4599-4E12-9109-D40439A3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697-293F-45A3-AC19-5CFFCB2D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C7DC-5479-4535-815B-82BCC4B3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BCCD-990D-40AC-9C8F-6CF7E167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C16C-9DA0-451B-BE47-3E98F32B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837E-A67B-4AB3-945A-F8B15A44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8B08-BC45-4E65-9C4E-069B795C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B79-09CF-49E5-9452-AF023978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655-653C-4679-BEDC-2E750322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9F9-6DAA-45A6-8112-1BD20820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9FF-DA88-4621-8DC6-90AB275E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FC3-5F34-4047-B3C0-8405733D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5BC-D2A6-4C8D-8CC9-33BACDBB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228-EF80-4E34-8955-96421324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8B1C-343F-4CD5-9486-6727EF0A1A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BS_podstranka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NBS_uvod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494a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BCDB-F5C2-4A67-8740-BB75C817283D}" type="slidenum">
              <a:rPr b="1" lang="en-US" sz="2400" spc="-1" strike="noStrike">
                <a:solidFill>
                  <a:srgbClr val="494a4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565360"/>
            <a:ext cx="8708760" cy="25941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dddddd"/>
                </a:solidFill>
                <a:latin typeface="Tahoma"/>
              </a:rPr>
              <a:t>Implementácia smernice AIFMD</a:t>
            </a:r>
            <a:br>
              <a:rPr sz="4800"/>
            </a:br>
            <a:br>
              <a:rPr sz="4800"/>
            </a:b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SLOVENSKO vs. EÚ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5589360"/>
            <a:ext cx="8705880" cy="11523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Konferencia Kolektívne Investovanie, 9.novembra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Ing. Tomáš Ambr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odbor reguláci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Rozsah regulácie smernice AIFM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ahoma"/>
              </a:rPr>
              <a:t>Celkom asi 1O biliónov E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84360" y="2349360"/>
            <a:ext cx="7848360" cy="47772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Alternatívne investičné fon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84360" y="2828880"/>
            <a:ext cx="7848360" cy="283716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Hedge fon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ivate equity fon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Realitné fon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+ Všetky národné neharmonizované investičné fondy (non-UCITS fond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+ Akékoľvek iné neharmonizované schémy, ktoré fungujú na princípe kolektívneho investova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Dôsledky smernice AIFMD v EÚ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avedenie regulácie v sektoroch finačného trhu, ktoré boli tradične neregulova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lak na re-domiciliáciu fondov do E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lak na konkurenčné prostredie v rámci EÚ a kvalitu regulácie a podnikateľského prostr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dstránenie výhod národnej neharmonizovanej (non-UCITS) regulácie fond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Dopady na slovenské subjekt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rávcovské spoloč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pozitá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ubjekty vykonávajúce verejnú ponuku majetkových hodnô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77880" y="3284640"/>
            <a:ext cx="7848720" cy="47772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ýsled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66720" y="3786120"/>
            <a:ext cx="7848720" cy="271260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Tahoma"/>
              </a:rPr>
              <a:t>Regulovaný sektor (správcovské spoločnost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zvýšené nákla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veľmi malé benefity zo zvýšenej miery a kvality regulác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Tahoma"/>
              </a:rPr>
              <a:t>Verejná ponuka majetkových hodnô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zvýšenie ochrany investorov odstránením inštitútu verejnej ponuky majetkových hodnô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Tahoma"/>
              </a:rPr>
              <a:t>Neregulovaný sektor (private equit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regulácia = možnosť pre rozvoj inštitucionálneho (podnikateľského) kolektívneho investovania a kapitálového trhu všeobec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Je možné AIFMD vnímať ako šancu?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Luxemburg a ďalšie štáty západnej Euró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Česká reforma regulácie kolektívneho investov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Czech Republic for Fin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ávrh Zákona o Investičních Společnostech a Investičních Fondech (ZISIF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dministrácia fond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ové právne formy fondov (spoločnosti typu SICAV a komanditné spoločnosti s investičnými cennými papierm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Fondy rizikového kapitá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Súčasný stav implementácie na Slovensku a hlavné oblasti záujmu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existuje širšia verejná disku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Jediným partnerom je SASS, ktorá prirodzene sleduje záujmy existujúcich regulovaných spoločností, ktoré sa sústredia na retai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existuje ambícia podobná Č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bdikovalo Slovensko na vytvorenie fungujúceho kapitálového trhu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existuje širšia vízia reformy a rozvoja kapitálového trhu na Slovens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me odkázaní na bankami financovanú ekonomiku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ár poznámok na záver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lovensko v EÚ – pozitíva a negatí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udúcnosť kolektívneho investovania na Slovens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treba partnerstva štátu, trhu, akademickej obce a občanov – spotrebiteľov pri tvorbe politiky finančného tr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50560" y="4869000"/>
            <a:ext cx="8705880" cy="12240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Ing. Tomáš Amb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odbor regulác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Tomáš Ambra</cp:lastModifiedBy>
  <dcterms:modified xsi:type="dcterms:W3CDTF">2012-11-05T09:43:11Z</dcterms:modified>
  <cp:revision>60</cp:revision>
  <dc:subject/>
  <dc:title>Slide 1</dc:title>
</cp:coreProperties>
</file>