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9E8A-B482-4C01-B3E4-5439E8AE908D}" type="slidenum"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B19D-06C1-4655-B13D-3E1DF7D22EF9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26D1-5032-4361-9B7B-267A61AB4C7B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7E79-035C-4378-A786-95202D46C74B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A169-7C20-424D-8390-925340034D37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04B9-DB6C-48C5-ADCF-314D7F9D185D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9E8C-D93E-4435-8CEA-7DE6590DA3D0}" type="slidenum">
              <a:rPr b="0" lang="sk-SK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222-C727-412D-AE77-E2DE7C92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ACC-59A0-4076-9113-AC9E01D5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1F5-2D02-43EF-83BC-0CAE291F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6B6-5630-4F80-BCF3-F5A05315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5BED-0C4A-4D92-A2D4-2115DEEA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43B3-93F2-4A9D-A244-6A3E385E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9A0C-86D8-482E-90A4-E2883ECC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9079-80B8-40CC-BBBC-23D8147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8750-2085-442D-BBA5-F5A66BFB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4E92-6828-479F-B2AB-12F5E87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5853-7D0B-4DAF-8CAB-05C426ED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052-2CE6-4188-AC3B-CE304A6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2B60-C815-4CE6-B081-FF3BDD91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16C9-F2AD-4013-907A-140D7724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35D4-8C1E-4E6F-8200-740A8BD6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0E25-A065-403D-9D6D-5D6FBFF8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F73-0130-459A-82F0-F146A727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844-FE04-4606-BB94-72007080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755-FB8C-41D3-BCB6-3DB4B3D2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66F-D485-4A6B-8C82-7C772049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25B-F956-4ACC-BE82-FF4C2768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808-B676-4EA0-A2C1-6E60760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6E1-AFF3-4420-9913-C7591880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B85-916D-419F-A7AD-740BDFF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C0AC-4E8E-4216-B540-AA3AA35FFE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FB1B-1010-4435-9229-25580EA372ED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dddddd"/>
                </a:solidFill>
                <a:latin typeface="Tahoma"/>
              </a:rPr>
              <a:t>Zmeny v kolektívnom investovaní na Slovensku</a:t>
            </a:r>
            <a:br>
              <a:rPr sz="4800"/>
            </a:br>
            <a:r>
              <a:rPr b="1" lang="sk-SK" sz="2400" spc="-1" strike="noStrike">
                <a:solidFill>
                  <a:srgbClr val="003881"/>
                </a:solidFill>
                <a:latin typeface="Tahoma"/>
              </a:rPr>
              <a:t>Hlavné trendy a výzvy v budúcich najbližších rokoch</a:t>
            </a:r>
            <a:br>
              <a:rPr sz="4800"/>
            </a:br>
            <a:endParaRPr b="1" lang="en-US" sz="2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Kolektívne investovanie, 9. novembr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Mgr. Júlia Čillíkov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riaditeľka odboru regulá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Kam smerujú úspory obyvateľstva?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950760" y="5954760"/>
            <a:ext cx="6913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Údaje v tisícoch EUR k 2Q / 20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droj: NB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71640" y="1811160"/>
            <a:ext cx="720072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Kolektívne investovanie 2004 - 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971640" y="587700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Údaje v tisícoch EU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droj: SA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Vklady v bankách 2004 - 201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971640" y="5877000"/>
            <a:ext cx="457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Údaje v tisícoch EU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droj: NB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Miera náhrady štátnych dôchodk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380520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1476360" y="3298680"/>
            <a:ext cx="633744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3440" y="2849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6600"/>
                </a:solidFill>
                <a:latin typeface="Arial"/>
              </a:rPr>
              <a:t>Miera náhrady</a:t>
            </a:r>
            <a:r>
              <a:rPr b="1" lang="fr-BE" sz="1400" spc="-1" strike="noStrike">
                <a:solidFill>
                  <a:srgbClr val="ff6600"/>
                </a:solidFill>
                <a:latin typeface="Arial"/>
              </a:rPr>
              <a:t> 6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85320" y="5649480"/>
            <a:ext cx="718668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ercentuálna miera náhrad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%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sledného príjm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 štátnych penzijných sché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droj: Európska Komisia a OEC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Výzvy pre kolektívne investovani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poriace produk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85840">
              <a:lnSpc>
                <a:spcPct val="80000"/>
              </a:lnSpc>
              <a:spcAft>
                <a:spcPts val="1199"/>
              </a:spcAft>
              <a:buClr>
                <a:srgbClr val="0038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Úloha kolektívneho investovania v dôchodkovom sporen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IFMD (rozvoj špeciálnych fondo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85840">
              <a:lnSpc>
                <a:spcPct val="80000"/>
              </a:lnSpc>
              <a:spcAft>
                <a:spcPts val="1199"/>
              </a:spcAft>
              <a:buClr>
                <a:srgbClr val="0038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tailové špeciálne fon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85840">
              <a:lnSpc>
                <a:spcPct val="80000"/>
              </a:lnSpc>
              <a:spcAft>
                <a:spcPts val="1199"/>
              </a:spcAft>
              <a:buClr>
                <a:srgbClr val="0038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Inštitucionálne (podnikateľské) fon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Finančná gramotnosť inves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NBS</cp:lastModifiedBy>
  <cp:lastPrinted>2012-11-08T13:40:12Z</cp:lastPrinted>
  <dcterms:modified xsi:type="dcterms:W3CDTF">2012-11-08T13:47:39Z</dcterms:modified>
  <cp:revision>59</cp:revision>
  <dc:subject/>
  <dc:title>Slide 1</dc:title>
</cp:coreProperties>
</file>