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BD70-7BDF-439D-BD93-073C2A23BA71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E3B-E56C-45F9-A16C-F022CBABD96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3C98-E41B-4253-84D7-167E3E31C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0D2C-B1D0-4A67-9298-D561E9C09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967E-2F0B-48B9-952B-C6F404675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6E65-F354-4163-8CF2-19552EEB2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F050-6EFD-44A5-9546-49137775B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C813-BB7D-4BB2-B134-7AC3285CF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591B-147F-4186-9CAD-0631007BC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4370-E767-443D-A189-AFBC41909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D328-4AFD-4F4C-8365-70101D04E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7807-6ED7-426E-9F04-8BD359CF5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4B8A-577C-43A3-BBBC-B0758321F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92FA-F843-4EFC-934E-C68C14BA2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Fadrique\AppData\Local\Temp\wzfdd0\ISP_Linea Orizzontale\ISP_lineaOrizz.jpg"/>
          <p:cNvPicPr/>
          <p:nvPr/>
        </p:nvPicPr>
        <p:blipFill>
          <a:blip r:embed="rId2"/>
          <a:stretch/>
        </p:blipFill>
        <p:spPr>
          <a:xfrm>
            <a:off x="209520" y="6076800"/>
            <a:ext cx="863928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6920" y="6308280"/>
            <a:ext cx="103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BE59-2105-44FF-A434-71E0F47AC2F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Obrázok 8" descr="VUB_asset man.bmp"/>
          <p:cNvPicPr/>
          <p:nvPr/>
        </p:nvPicPr>
        <p:blipFill>
          <a:blip r:embed="rId3"/>
          <a:stretch/>
        </p:blipFill>
        <p:spPr>
          <a:xfrm>
            <a:off x="324000" y="6294600"/>
            <a:ext cx="253368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Obrázok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8" descr="VUB_asset man.bmp"/>
          <p:cNvPicPr/>
          <p:nvPr/>
        </p:nvPicPr>
        <p:blipFill>
          <a:blip r:embed="rId3"/>
          <a:stretch/>
        </p:blipFill>
        <p:spPr>
          <a:xfrm>
            <a:off x="276120" y="500040"/>
            <a:ext cx="472608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eny v kolektívnom investovaní na Slovensku</a:t>
            </a:r>
            <a:br>
              <a:rPr sz="2800"/>
            </a:b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Hlavné trendy a výzvy v najbližších roko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560" y="4707000"/>
            <a:ext cx="75214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rian Matušovič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seda predstavenstva, VÚB Asse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rnava, 10.</a:t>
            </a:r>
            <a:r>
              <a:rPr b="0" lang="sk-SK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ovember, 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 2010  vrs.  skutočnosť 20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478C-4490-4120-965C-9750B47F08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50920" y="1214280"/>
            <a:ext cx="864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prieskumu: august 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lavný cieľ: zistiť očakávané trendy v produktovom portfóliu, v rozsahu poskytovaných služieb, segmentácii klientov, ako aj pri úprave obchodných modelov slovenských správcovských spoločností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tatistická metóda získavania údajov: štandardizovaný dotazní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spondenti: členovia predstavenstiev správcovských spoločností a dôchodkových správcovských spoločností, senior manažéri bánk (oddelenia treasury, depozitára, vývoja a distribúcie investičných produktov, privátneho bankovníctva),  odborníci z NBS a SA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čet dotazníko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74 zaslaný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8  vyplnených s  najväčším  zastúpením   manažérov správcovských spoločností (39,5 %) a  manažérov bánk (34,2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BECD-0028-4868-9231-66F9C2640E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7643880" y="300024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300024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3"/>
          <p:cNvSpPr/>
          <p:nvPr/>
        </p:nvSpPr>
        <p:spPr>
          <a:xfrm>
            <a:off x="324000" y="333360"/>
            <a:ext cx="8424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Ktoré z uvedených trendov v oblasti KI budú s najväčšou pravdepodobnosťou podľa Vášho názoru v blízkej budúcnosti realizované na Slovensk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125360"/>
          <a:ext cx="8501040" cy="4578480"/>
        </p:xfrm>
        <a:graphic>
          <a:graphicData uri="http://schemas.openxmlformats.org/drawingml/2006/table">
            <a:tbl>
              <a:tblPr/>
              <a:tblGrid>
                <a:gridCol w="7572240"/>
                <a:gridCol w="928800"/>
              </a:tblGrid>
              <a:tr h="227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lementácia novej legislatívy snažiaca sa zvýšiť ochranu investorov a prísnejšej regul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lizácia programov na  zvýšenie finančnej gramotnosti obyvateľstva zabezpečovaná štá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rizikovej averzie investo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446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výšený záujem o fondy, ktoré zabezpečia 100% ochranu vloženého kapitálu a predvídateľnú, hoci aj nižšiu výkonnos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237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 s „optimálnym rozložením investícií“, bez zabezpečenia 100% ochrany  vloženého kapit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3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tupné znižovanie dominancie peňažných fondov v prospech fondov z vyšším rizikovým profilom (dlhopisové, zmiešané, akciové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111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tupné zvyšovanie investícií do fondov spravovaných zahraničnými správcovskými spoločnosťa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šenie vstupn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žovanie správcovsk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vedenie správcovských poplatkov závislých od dosiahnutej  výko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zšírenie nových sporiacich schém a zvýšená podpora ich pred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539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záujmu o investície do fondov a sporiace schémy z dôvodu nedôvery obyvateľstva voči schopnosti  štátu zabezpečiť primerané dôchodky, resp. potreby spori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íženie záujmu investorov o fondy v prospech ETF, dlhopisov, akcií a iných 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výšenie distribúcie fondov prostredníctvom interne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distribúcie fondov prostredníctvom pobočiek bá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26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é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134100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Čo nás čaká za ďalšie dva rok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816-AED4-4EEC-AF74-B829CE78AA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8:47:48Z</dcterms:created>
  <dc:creator>Romsauerova</dc:creator>
  <dc:description/>
  <dc:language>en-US</dc:language>
  <cp:lastModifiedBy>mmatusovic</cp:lastModifiedBy>
  <dcterms:modified xsi:type="dcterms:W3CDTF">2012-11-02T16:22:38Z</dcterms:modified>
  <cp:revision>99</cp:revision>
  <dc:subject/>
  <dc:title>Snímka 1</dc:title>
</cp:coreProperties>
</file>