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B96-2DB2-4B22-8B2F-40547315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7A4-AF84-4643-A620-9E0B34C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385-C060-4ED1-B70E-53201B44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71F-A30B-4FA3-95AB-CA696BFE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E82-2B23-4DD7-98C1-6FE32E1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442-FB7E-4D52-BAF1-9555B90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AD2-12FB-4ED8-810B-E326617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3AE-10A8-487F-A5BF-26E71E2E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1EA-6269-43A2-8B7B-FA0CE46F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864-4637-4A29-8FC6-41F53C9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129-C533-4A56-AEC2-99CE1C11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E5C-A365-4D89-AAC5-6440BDF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7F11-7FE9-4CF7-8C0F-4F762F1E7C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43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45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2"/>
          <p:cNvSpPr/>
          <p:nvPr/>
        </p:nvSpPr>
        <p:spPr>
          <a:xfrm>
            <a:off x="1011240" y="2492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mplementácia direktívy o správcoch alternatívnych investičných fond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79480" y="4437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aditeľ odboru kapitálového trhu a poisťovníc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723120" y="545004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9. novem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5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5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Odkiaľ prichádza AIFM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lokTextu 10"/>
          <p:cNvSpPr/>
          <p:nvPr/>
        </p:nvSpPr>
        <p:spPr>
          <a:xfrm>
            <a:off x="500040" y="1857240"/>
            <a:ext cx="807264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smussen repor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znesenie EP, IX 2008,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Komisia by mala preskúmať všetky platné právne predpisy Spoločenstva týkajúce sa finančných trhov s cieľom určiť prípadné medzery v oblasti regulácie hedge fondov a private equity a na základe tohto prieskumu predložiť Európskemu parlamentu v prípade potreby legislatívny návrh či návrhy týkajúce sa pozmenenia a doplnenia platných smerníc s cieľom lepšie regulovať  hedge fondy, private equity a ďalších relevantných účastníkov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e Larosiere report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kupina EU pre finančný dohľad, XI.2008 – II.2009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..„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e transparency in all financial markets - and notably for systemically important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dge funds - by imposing, in all EU Member States and internationally, registratio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information requirements on hedge fund managers, concerning their strategies,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thods and leverage, including their worldwide activities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Rada,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rec 2009  ....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“U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rýchlene by sa malo pokročiť aj v práci na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nadchadzajucich návrhoch Komisie o hedgeovych fondoch“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rópska Komisia,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apríl 2009, Návrh smernice o správcoch alternatívnych investičných fon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8. jún 2011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publikácia v O.J., Smernica EP a Rady č. 2011/61/E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6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6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6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Čo reguluje AIFM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BlokTextu 10"/>
          <p:cNvSpPr/>
          <p:nvPr/>
        </p:nvSpPr>
        <p:spPr>
          <a:xfrm>
            <a:off x="571680" y="185724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gulácia správcov AIF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„UCITizácia“ režimu správcov,  osobitné povolenie, organizácia, kapitálové požiadavky a transparentnosť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IF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 fond iný ako UCITS fond, ktorý získava kapitál od viacerých investorov s cieľom investovať ho v súlade so stanovenou investičnou politikou v prospech týchto investorov,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čl. 4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ie regulácia fondov, s výnimkou regulácie pákového ef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depozitárov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ový koncept depozitárskej úchovy, delegovanie funkcií (subcustody), režim zodpoved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ezhraničná správa a distribúcia AIF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bdoba EU pasu ako pri UC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žim tretích krajín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EU pas aj pre správcovské spoločnosti z 3. krajín, koncept referenčného Č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hľad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- cezhraničná kooperácia, úlohy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9080" indent="-2629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7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7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7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Implementácia AIFM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BlokTextu 10"/>
          <p:cNvSpPr/>
          <p:nvPr/>
        </p:nvSpPr>
        <p:spPr>
          <a:xfrm>
            <a:off x="571680" y="1857240"/>
            <a:ext cx="8072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0240" indent="-1200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 level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~ 100 rôznych splnomocňovacích ustanovení, vykonávacie a delegované predpisy EK, technická pomoc E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Návrh nariadenia EK- priamo aplikovate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počty limit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rganizácia a riadenia správco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epozitá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ákový efek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formačné povi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SK level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ozsiahla novela zákona č. 203/2011 Z. z. o kolektívnom investovaní, vyvolaná novela zákona o 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transpozičný termín:  22.júl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514600" indent="-2457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0240" indent="-12002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8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84" name="Rectangle 9"/>
              <p:cNvSpPr/>
              <p:nvPr/>
            </p:nvSpPr>
            <p:spPr>
              <a:xfrm>
                <a:off x="1428840" y="1671840"/>
                <a:ext cx="6696000" cy="43923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8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BlokTextu 10"/>
          <p:cNvSpPr/>
          <p:nvPr/>
        </p:nvSpPr>
        <p:spPr>
          <a:xfrm>
            <a:off x="571680" y="1844640"/>
            <a:ext cx="8072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UVECA a EUSEF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riadenia o európskych fondoch rizikového kapitálu a o európskych fondoch sociálneho podnikania, návrh EK, december 2011, súčasť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Akčného plánu EK na zlepšenie prístup SME k financov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gulácia  správcov fondov pod limitom 500 mil Eur, povinná registrácia podĺa AIFMD platná pre celú EÚ, distribúcia len profesionálnym investo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sociálneho podnikania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, malé podniky (do 50 mil. obratu), sociálny asp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k-SK" sz="1800" spc="-1" strike="noStrike">
                <a:solidFill>
                  <a:srgbClr val="000000"/>
                </a:solidFill>
                <a:latin typeface="Arial"/>
              </a:rPr>
              <a:t>fond  rizikového kapitálu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70% portfólia v non listed 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2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„AIFMdizácia“ režimu depozitár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3 -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UCITS VI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sekuritizácia, požičiavanie CP, repo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015 – stanovisko a odporúčanie EK a ESMA k uplatňovaniu EU pasov pre správu a uvádzanie na trh AIF,  delegované akty 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vízia MiFID, dane z finančných transakc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Ďalší vývo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Skupina 11"/>
          <p:cNvGrpSpPr/>
          <p:nvPr/>
        </p:nvGrpSpPr>
        <p:grpSpPr>
          <a:xfrm>
            <a:off x="0" y="100080"/>
            <a:ext cx="9144000" cy="6757920"/>
            <a:chOff x="0" y="100080"/>
            <a:chExt cx="9144000" cy="6757920"/>
          </a:xfrm>
        </p:grpSpPr>
        <p:grpSp>
          <p:nvGrpSpPr>
            <p:cNvPr id="93" name="Group 11"/>
            <p:cNvGrpSpPr/>
            <p:nvPr/>
          </p:nvGrpSpPr>
          <p:grpSpPr>
            <a:xfrm>
              <a:off x="0" y="100080"/>
              <a:ext cx="9144000" cy="6757920"/>
              <a:chOff x="0" y="100080"/>
              <a:chExt cx="9144000" cy="6757920"/>
            </a:xfrm>
          </p:grpSpPr>
          <p:sp>
            <p:nvSpPr>
              <p:cNvPr id="94" name="Rectangle 9"/>
              <p:cNvSpPr/>
              <p:nvPr/>
            </p:nvSpPr>
            <p:spPr>
              <a:xfrm>
                <a:off x="1428840" y="1671840"/>
                <a:ext cx="6696000" cy="1257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0"/>
              <p:cNvGrpSpPr/>
              <p:nvPr/>
            </p:nvGrpSpPr>
            <p:grpSpPr>
              <a:xfrm>
                <a:off x="0" y="100080"/>
                <a:ext cx="9144000" cy="6757920"/>
                <a:chOff x="0" y="100080"/>
                <a:chExt cx="9144000" cy="6757920"/>
              </a:xfrm>
            </p:grpSpPr>
            <p:pic>
              <p:nvPicPr>
                <p:cNvPr id="96" name="Picture 2" descr="peni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243480" y="6093000"/>
                  <a:ext cx="2376720" cy="765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" descr="logo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100080"/>
                  <a:ext cx="296244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Line 5"/>
                <p:cNvSpPr/>
                <p:nvPr/>
              </p:nvSpPr>
              <p:spPr>
                <a:xfrm>
                  <a:off x="0" y="5977080"/>
                  <a:ext cx="9144000" cy="0"/>
                </a:xfrm>
                <a:prstGeom prst="line">
                  <a:avLst/>
                </a:prstGeom>
                <a:ln w="324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99" name="Obrázok 1" descr="cid:image001.jpg@01CAAA67.8123F050"/>
            <p:cNvPicPr/>
            <p:nvPr/>
          </p:nvPicPr>
          <p:blipFill>
            <a:blip r:embed="rId3"/>
            <a:stretch/>
          </p:blipFill>
          <p:spPr>
            <a:xfrm>
              <a:off x="7215480" y="314280"/>
              <a:ext cx="1578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7"/>
          <p:cNvSpPr/>
          <p:nvPr/>
        </p:nvSpPr>
        <p:spPr>
          <a:xfrm>
            <a:off x="1068480" y="209376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58960" y="3857760"/>
            <a:ext cx="525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Ján Folt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odbor kapitálového trhu a poisťovníc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inisterstvo financií SR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Štefanovičova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817 82 Bratisl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Tel.:      +421 2 59582524         Fax: +421 2 5958354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E-mail:  jan.folt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mfsr.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9:39:31Z</dcterms:created>
  <dc:creator>Stanislava Ligová</dc:creator>
  <dc:description/>
  <dc:language>en-US</dc:language>
  <cp:lastModifiedBy>jfoltan</cp:lastModifiedBy>
  <dcterms:modified xsi:type="dcterms:W3CDTF">2012-10-30T14:02:32Z</dcterms:modified>
  <cp:revision>190</cp:revision>
  <dc:subject/>
  <dc:title>Snímka 1</dc:title>
</cp:coreProperties>
</file>