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4.png" ContentType="image/png"/>
  <Override PartName="/ppt/media/image3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png" ContentType="image/png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3"/>
          </p:nvPr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912600" y="743040"/>
            <a:ext cx="4948200" cy="371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03240" y="4705200"/>
            <a:ext cx="4965840" cy="4454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4"/>
          </p:nvPr>
        </p:nvSpPr>
        <p:spPr>
          <a:xfrm>
            <a:off x="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5"/>
          </p:nvPr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D389-BF07-424A-B28B-6F2D1CEA4EA5}" type="slidenum"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48200" cy="37130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3240" y="4705200"/>
            <a:ext cx="496584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Zástupný symbol čísla snímky 3"/>
          <p:cNvSpPr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ADE3-AA75-487B-A4DD-AB4FD8F242B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528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772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016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452520"/>
            <a:ext cx="8229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528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772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016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452520"/>
            <a:ext cx="8229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528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7772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6016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52520"/>
            <a:ext cx="8229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2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31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303960"/>
            <a:ext cx="23112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Názov prezentácie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CFF5-3D46-4845-A682-E87A185FFCD4}" type="datetime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BA89652-38DF-4281-9901-973FAF328F97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6"/>
          <p:cNvSpPr/>
          <p:nvPr/>
        </p:nvSpPr>
        <p:spPr>
          <a:xfrm>
            <a:off x="552600" y="1222200"/>
            <a:ext cx="7989840" cy="0"/>
          </a:xfrm>
          <a:prstGeom prst="line">
            <a:avLst/>
          </a:prstGeom>
          <a:ln w="50760">
            <a:solidFill>
              <a:srgbClr val="083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2"/>
          <p:cNvSpPr/>
          <p:nvPr/>
        </p:nvSpPr>
        <p:spPr>
          <a:xfrm>
            <a:off x="4824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" descr="Erste_Asset_rgb"/>
          <p:cNvPicPr/>
          <p:nvPr/>
        </p:nvPicPr>
        <p:blipFill>
          <a:blip r:embed="rId2"/>
          <a:stretch/>
        </p:blipFill>
        <p:spPr>
          <a:xfrm>
            <a:off x="5003640" y="6237360"/>
            <a:ext cx="1440000" cy="301680"/>
          </a:xfrm>
          <a:prstGeom prst="rect">
            <a:avLst/>
          </a:prstGeom>
          <a:ln w="0">
            <a:noFill/>
          </a:ln>
        </p:spPr>
      </p:pic>
      <p:sp>
        <p:nvSpPr>
          <p:cNvPr id="6" name="Text Box 22"/>
          <p:cNvSpPr/>
          <p:nvPr/>
        </p:nvSpPr>
        <p:spPr>
          <a:xfrm>
            <a:off x="6948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9" descr="AM SLSP cmyk kopie"/>
          <p:cNvPicPr/>
          <p:nvPr/>
        </p:nvPicPr>
        <p:blipFill>
          <a:blip r:embed="rId3"/>
          <a:stretch/>
        </p:blipFill>
        <p:spPr>
          <a:xfrm>
            <a:off x="6659640" y="6221520"/>
            <a:ext cx="234792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Erste_Asset_rgb"/>
          <p:cNvPicPr/>
          <p:nvPr/>
        </p:nvPicPr>
        <p:blipFill>
          <a:blip r:embed="rId2"/>
          <a:stretch/>
        </p:blipFill>
        <p:spPr>
          <a:xfrm>
            <a:off x="468360" y="6093000"/>
            <a:ext cx="2698560" cy="564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AM SLSP cmyk kopie"/>
          <p:cNvPicPr/>
          <p:nvPr/>
        </p:nvPicPr>
        <p:blipFill>
          <a:blip r:embed="rId3"/>
          <a:stretch/>
        </p:blipFill>
        <p:spPr>
          <a:xfrm>
            <a:off x="5435640" y="6237360"/>
            <a:ext cx="3282840" cy="423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2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31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6"/>
          <p:cNvSpPr/>
          <p:nvPr/>
        </p:nvSpPr>
        <p:spPr>
          <a:xfrm>
            <a:off x="552600" y="1222200"/>
            <a:ext cx="7989840" cy="0"/>
          </a:xfrm>
          <a:prstGeom prst="line">
            <a:avLst/>
          </a:prstGeom>
          <a:ln w="50760">
            <a:solidFill>
              <a:srgbClr val="083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824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7" descr="Erste_Asset_rgb"/>
          <p:cNvPicPr/>
          <p:nvPr/>
        </p:nvPicPr>
        <p:blipFill>
          <a:blip r:embed="rId2"/>
          <a:stretch/>
        </p:blipFill>
        <p:spPr>
          <a:xfrm>
            <a:off x="5003640" y="6237360"/>
            <a:ext cx="1440000" cy="301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2"/>
          <p:cNvSpPr/>
          <p:nvPr/>
        </p:nvSpPr>
        <p:spPr>
          <a:xfrm>
            <a:off x="6948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9" descr="AM SLSP cmyk kopie"/>
          <p:cNvPicPr/>
          <p:nvPr/>
        </p:nvPicPr>
        <p:blipFill>
          <a:blip r:embed="rId3"/>
          <a:stretch/>
        </p:blipFill>
        <p:spPr>
          <a:xfrm>
            <a:off x="6659640" y="6221520"/>
            <a:ext cx="234792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2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31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46800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B169-7101-4A51-83AB-47973B95B2DC}" type="datetime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F8618D3-462F-4EBD-9C5D-4905C9D64C32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hyperlink" Target="http://epp.eurostat.ec.europa.eu/guip/introAction.do?profile=cpro&amp;theme=eurind&amp;lang=en" TargetMode="External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3320" y="1125360"/>
            <a:ext cx="814068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Doba konzervatívnych investičných nástrojov.</a:t>
            </a:r>
            <a:br>
              <a:rPr sz="3200"/>
            </a:b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ú peňažné trhy a dlhopisy liekom na porazenie inflácie v prostredí dlhovej krízy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3680" y="3860640"/>
            <a:ext cx="8207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10. November 2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eter H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enior portfolio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sset Management Slovenskej sporiteľ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ráv. spol., a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78508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ízke úrokové sadzby peňažného trhu (EURIB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054E-9374-4E5A-B21E-0B963C931DB0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91B738AD-3474-4F85-9586-6EFCC9E5697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032360" cy="2427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539640" y="3735360"/>
            <a:ext cx="4032360" cy="2357640"/>
          </a:xfrm>
          <a:prstGeom prst="rect">
            <a:avLst/>
          </a:prstGeom>
          <a:ln w="0">
            <a:noFill/>
          </a:ln>
        </p:spPr>
      </p:pic>
      <p:sp>
        <p:nvSpPr>
          <p:cNvPr id="194" name="Obdĺžnik 7"/>
          <p:cNvSpPr/>
          <p:nvPr/>
        </p:nvSpPr>
        <p:spPr>
          <a:xfrm>
            <a:off x="47124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4572000" y="1268280"/>
            <a:ext cx="4032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Menová politika ECB (nízke úrokové sadzby, dostatok likvidity) tlačí úrokové sadzby EURIBOR nado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ajbližších 12M - 18M neuvidíme výraznejšiu zmenu trhových úrokových sadzie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Hlavná sadzba ECB vs. depo O/N sadzb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i porovnaní spotového trhu krátkodobých úrokov s forwardovou krivkou vyplýva, že rastúci priebeh úrokovej krivky je viac definovaný prémiou za likviditu než očakávaním rastu úroko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Tento rok sme videli už pokles pozdĺž celej úrokovej krivky o 91 až 132 bp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Aktuálne kotácie 3M a 12M Euriboru na úrovni 0,20%, resp. 0,63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85672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a dlhopisov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ých výnosov – kde hladať výnos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0D63-BE1A-411D-A163-AC8A21463D0D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F79C723C-EE24-4A14-90F1-3433AE7F347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5977080" cy="4488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2"/>
          <a:stretch/>
        </p:blipFill>
        <p:spPr>
          <a:xfrm>
            <a:off x="1332000" y="5732640"/>
            <a:ext cx="8885160" cy="223560"/>
          </a:xfrm>
          <a:prstGeom prst="rect">
            <a:avLst/>
          </a:prstGeom>
          <a:ln w="0">
            <a:noFill/>
          </a:ln>
        </p:spPr>
      </p:pic>
      <p:sp>
        <p:nvSpPr>
          <p:cNvPr id="200" name="Obdĺžnik 7"/>
          <p:cNvSpPr/>
          <p:nvPr/>
        </p:nvSpPr>
        <p:spPr>
          <a:xfrm>
            <a:off x="610200" y="5991120"/>
            <a:ext cx="422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Eurostat 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pp.eurostat.ec.europa.eu/guip/introAction.do?profile=cpro&amp;theme=eurind&amp;lang=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BlokTextu 9"/>
          <p:cNvSpPr/>
          <p:nvPr/>
        </p:nvSpPr>
        <p:spPr>
          <a:xfrm>
            <a:off x="1363320" y="5445000"/>
            <a:ext cx="576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lhodobé výnosy štátnych dlhopisov v EÚ, dáta k 09/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ízke výnosy dlhopisov (hlavné trhy- US,G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36D7-852F-46DF-AB67-3AED1969D9A9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36E671FB-BBEA-49AC-96BA-D116EBB5614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4572000" y="1268280"/>
            <a:ext cx="40323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Trh bezrizikových štátnych dlhopisov (US/GER) zaznamenal bezprecedentný vývo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päť tak ťažil aj z rizikovej averzie a neistoty na finančných trhoch (útek ku kvalite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Riešenie dlhovej krízy v Eurozóne je zložité a stále je vysoká miera neistoty na trhu, toky investícií do bezpečných dlhopisov znižujú ich výnos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ýnosy ich 10-ročných dlhopisov dosiahli v  júli rekordné úrovne 1,39% resp. 1,2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d augusta prebieha korekcia vo výnosoch (čiastočné eliminovanie „prémie za kvalitu“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Riziko výraznejšieho nárastu dlhodobých výnosov (10Y) bude prameniť najmä z obratu v menovej politi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Čo aktuálne predstavuje skôr strednodobý rizikový fakt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čakávame iba mierny rast výnosov počas najbližšieho ro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bdĺžnik 7"/>
          <p:cNvSpPr/>
          <p:nvPr/>
        </p:nvSpPr>
        <p:spPr>
          <a:xfrm>
            <a:off x="542520" y="609300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539640" y="3782880"/>
            <a:ext cx="3961080" cy="2382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"/>
          <p:cNvPicPr/>
          <p:nvPr/>
        </p:nvPicPr>
        <p:blipFill>
          <a:blip r:embed="rId2"/>
          <a:stretch/>
        </p:blipFill>
        <p:spPr>
          <a:xfrm>
            <a:off x="539640" y="1320840"/>
            <a:ext cx="3961080" cy="2468520"/>
          </a:xfrm>
          <a:prstGeom prst="rect">
            <a:avLst/>
          </a:prstGeom>
          <a:ln w="0">
            <a:noFill/>
          </a:ln>
        </p:spPr>
      </p:pic>
      <p:cxnSp>
        <p:nvCxnSpPr>
          <p:cNvPr id="208" name="Rovná spojovacia šípka 10"/>
          <p:cNvCxnSpPr/>
          <p:nvPr/>
        </p:nvCxnSpPr>
        <p:spPr>
          <a:xfrm>
            <a:off x="826920" y="2349360"/>
            <a:ext cx="3385440" cy="72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9" name="Rovná spojovacia šípka 9"/>
          <p:cNvCxnSpPr/>
          <p:nvPr/>
        </p:nvCxnSpPr>
        <p:spPr>
          <a:xfrm flipV="1">
            <a:off x="4284720" y="2923920"/>
            <a:ext cx="216720" cy="218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ízke výnosy dlhopisov..., a čo na Slovensku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CA99-3836-44BF-B1C3-D334B7276F7E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F9C2507F-C1DB-41F4-A4CB-39E44A6065D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700680" cy="4032360"/>
          </a:xfrm>
          <a:prstGeom prst="rect">
            <a:avLst/>
          </a:prstGeom>
          <a:ln w="0">
            <a:noFill/>
          </a:ln>
        </p:spPr>
      </p:pic>
      <p:sp>
        <p:nvSpPr>
          <p:cNvPr id="213" name="Obdĺžnik 7"/>
          <p:cNvSpPr/>
          <p:nvPr/>
        </p:nvSpPr>
        <p:spPr>
          <a:xfrm>
            <a:off x="1045800" y="595008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755640" y="1268280"/>
            <a:ext cx="7993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	</a:t>
            </a: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Zodpovedá aktuálna výnosová krivka na Slovensku jeho  fundamentom? Je spread voči swapom adekvát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lovenský trh štátnych dlhopis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0728-B90D-464F-B1AA-278BFC374DD4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15BE58A1-8786-4364-9DE9-A49A23650F5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09960" cy="4066920"/>
          </a:xfrm>
          <a:prstGeom prst="rect">
            <a:avLst/>
          </a:prstGeom>
          <a:ln w="0">
            <a:noFill/>
          </a:ln>
        </p:spPr>
      </p:pic>
      <p:sp>
        <p:nvSpPr>
          <p:cNvPr id="218" name="Textfeld 4"/>
          <p:cNvSpPr/>
          <p:nvPr/>
        </p:nvSpPr>
        <p:spPr>
          <a:xfrm>
            <a:off x="179280" y="14652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ýnosy a výkonnosť štátnych dlhopisov Slovens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4788000" y="1844640"/>
            <a:ext cx="42368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ídny ekonomický rast a nízka zadlženosť vlády robia Slovenské štátne dlhopisy v očiach investorov atraktívnym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zitívne je vnímaný aj stabilný ratingový výhľad a fiškálne opatrenia vlády prijaté v záujme dosiahnuť zníženie deficitu verejných financií v roku 20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azniv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ý sentiment na trhoch pokračuje a s ním aj vývoj na lokálnom dlhopisovom trh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ýnosová krivka opäť prepisovala historické rekordy, keď najmä dlhé splatnosti zaznamenali nové rekordne nízke úrov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-ro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čný výnos štátnych dlhopisov sa obchodoval v závere septembra na úrovni 2,63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enzitivita lokálnych výnosov na negatívny vývoj je čiastočne limitovaná ponukou nových dlhopisov na trh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bdĺžnik 7"/>
          <p:cNvSpPr/>
          <p:nvPr/>
        </p:nvSpPr>
        <p:spPr>
          <a:xfrm>
            <a:off x="253800" y="5805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FF51-AAA3-4D5C-BD03-F84C7D90649D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EC2A3597-BBF3-4DF4-92AD-66D2A5EC68A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34960" y="2060640"/>
            <a:ext cx="5051520" cy="3168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5580000" y="2060640"/>
            <a:ext cx="3024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2-ročný americký interest rate swap spread sa ďalej znižuje, čo indikuje zvýšený záujem investorov o korporátne dlhopis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Aktuálne úrovne 9-10 bps veľmi blízko k rekordným minimám z roku 199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Korporátne dlhopisy na najlepšej ceste k rekordným ziskom tento r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ĺžnik 7"/>
          <p:cNvSpPr/>
          <p:nvPr/>
        </p:nvSpPr>
        <p:spPr>
          <a:xfrm>
            <a:off x="471240" y="515772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vná spojnica 8"/>
          <p:cNvSpPr/>
          <p:nvPr/>
        </p:nvSpPr>
        <p:spPr>
          <a:xfrm>
            <a:off x="1116000" y="4149720"/>
            <a:ext cx="4392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ujem investorov o kreditné expozície rasti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50920" y="1339920"/>
            <a:ext cx="799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	</a:t>
            </a: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Indikátor nálady investorov na dlhopisových trhoch sa ďalej zlepš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9F41-02B0-4D5F-8513-CD69C9AA1AC0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B3333A45-FF65-47E7-A7AE-D7300F5E081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bdĺžnik 7"/>
          <p:cNvSpPr/>
          <p:nvPr/>
        </p:nvSpPr>
        <p:spPr>
          <a:xfrm>
            <a:off x="1118880" y="595008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539640" y="1341360"/>
            <a:ext cx="813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ýrazný pokles ceny protekcie rizika defaultu (CDS) v tomto roku pri všetkých indexo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Absolútny aj relatívny pokles spreadu indexu európskych HY voči IG naznačuje zvyšujúci záujem aj o rizikovejšie dlhopisy – veľmi nízke úrovne výnosov pri IG podporujú apetít po výnosnejších H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6751800" cy="38163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ujem investorov o kreditné expozície rasti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CBD2-C32E-416B-B2A5-EA1D0A6C1BF3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9F9644A4-CF11-405F-9E49-5E68F5EB9A6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C:\USERS\BloombergSAM\Desktop\we.gif"/>
          <p:cNvPicPr/>
          <p:nvPr/>
        </p:nvPicPr>
        <p:blipFill>
          <a:blip r:embed="rId1"/>
          <a:stretch/>
        </p:blipFill>
        <p:spPr>
          <a:xfrm>
            <a:off x="900000" y="1650960"/>
            <a:ext cx="7272360" cy="4370400"/>
          </a:xfrm>
          <a:prstGeom prst="rect">
            <a:avLst/>
          </a:prstGeom>
          <a:ln w="0">
            <a:noFill/>
          </a:ln>
        </p:spPr>
      </p:pic>
      <p:sp>
        <p:nvSpPr>
          <p:cNvPr id="235" name="Obdĺžnik 7"/>
          <p:cNvSpPr/>
          <p:nvPr/>
        </p:nvSpPr>
        <p:spPr>
          <a:xfrm>
            <a:off x="902880" y="595008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eriférne ekonomiky Eurozóny – CDS sprea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24000" y="1268280"/>
            <a:ext cx="849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	</a:t>
            </a: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Významný pokles rizikovej prémie najproblémovejších krajín 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ál 8"/>
          <p:cNvSpPr/>
          <p:nvPr/>
        </p:nvSpPr>
        <p:spPr>
          <a:xfrm>
            <a:off x="1692360" y="2565360"/>
            <a:ext cx="1366920" cy="2519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ál 9"/>
          <p:cNvSpPr/>
          <p:nvPr/>
        </p:nvSpPr>
        <p:spPr>
          <a:xfrm>
            <a:off x="4356000" y="2997360"/>
            <a:ext cx="863640" cy="20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ál 10"/>
          <p:cNvSpPr/>
          <p:nvPr/>
        </p:nvSpPr>
        <p:spPr>
          <a:xfrm>
            <a:off x="7524720" y="4221000"/>
            <a:ext cx="142920" cy="1008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Rovná spojovacia šípka 12"/>
          <p:cNvCxnSpPr/>
          <p:nvPr/>
        </p:nvCxnSpPr>
        <p:spPr>
          <a:xfrm>
            <a:off x="5219280" y="4221000"/>
            <a:ext cx="2305440" cy="721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42" name="Rovná spojovacia šípka 16"/>
          <p:cNvCxnSpPr/>
          <p:nvPr/>
        </p:nvCxnSpPr>
        <p:spPr>
          <a:xfrm>
            <a:off x="2700000" y="2637000"/>
            <a:ext cx="4825080" cy="1729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Zástupný symbol päty 3"/>
          <p:cNvSpPr/>
          <p:nvPr/>
        </p:nvSpPr>
        <p:spPr>
          <a:xfrm>
            <a:off x="468360" y="6303960"/>
            <a:ext cx="431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E5DD4769-3B13-42BE-8331-1F95D8020F03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07721410-DB12-4BB5-8071-09559D3A5E5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1912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ver a zhodnoten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\\shq404\MPPAMSLSP\OBRAZKY\j0433123.jpg"/>
          <p:cNvPicPr/>
          <p:nvPr/>
        </p:nvPicPr>
        <p:blipFill>
          <a:blip r:embed="rId1"/>
          <a:stretch/>
        </p:blipFill>
        <p:spPr>
          <a:xfrm>
            <a:off x="1371600" y="1446120"/>
            <a:ext cx="64008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Zástupný symbol päty 3"/>
          <p:cNvSpPr/>
          <p:nvPr/>
        </p:nvSpPr>
        <p:spPr>
          <a:xfrm>
            <a:off x="468360" y="6303960"/>
            <a:ext cx="4319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4BECA5BF-F39A-4230-A70C-49FA6F419610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6D5DA2AA-958C-4E59-AAD8-829ED5E7044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Zástupný symbol päty 3"/>
          <p:cNvSpPr/>
          <p:nvPr/>
        </p:nvSpPr>
        <p:spPr>
          <a:xfrm>
            <a:off x="468360" y="6303960"/>
            <a:ext cx="4248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AA9D3E89-91C6-4EDC-8C08-CE64B4FBE415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CF1A35E8-5381-4FB0-819E-A86911210D7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Hlavné témy prezentác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Globálna ekonomická aktivita je slabá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scenár pomalého a krehkého oživenia). Negatívny „output gap“, obmedzovanie výdavkov (spotrebitelia, vlády, bank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lhová kríza a procyklický efekt fiškálnej politiky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. Bolestivý vyrovnávací proces niektorých slabších krajín Eurozóny (zvýšenie konkurencieschopnosti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flácia vs. deflácia. Riziká a príležitosti.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dukcia nedosahujúca svoj výrobný potenciál tlačí infláciu dole. Inflačné riziká plynú z cien potravín a energií, ako aj z vládneho sektora (da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olitika globálnych CB – totálna expanzívna menová politik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nízke, resp. nulové úrokové sadzby, nekonvenčné opatrenia –QE/O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ízke úrokové sadzby peňažného trhu a nízke výnosy dlhopisov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slabý hospodársky rast, nastavenie menovej politiky a kreditné riziká ovplyvňujú úroveň výnosov). Hlavné trhy štátnych dlhopisov (USA,GER) = bezpečný prístav (riziková averz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hové prostredie je naklonené k triedam aktív s vyššími výnosmi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, uvidíme ďalší presun investorov z trhu bezrizikových štátnych dlhopisov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Globálna ekonomická aktivita je slab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0FF9-9988-4E8B-AB66-7F18CBC5A3D6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43608ADA-EB16-4EBF-B86A-13E0D2AF24E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176720" cy="2513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539640" y="3716280"/>
            <a:ext cx="4176720" cy="2513160"/>
          </a:xfrm>
          <a:prstGeom prst="rect">
            <a:avLst/>
          </a:prstGeom>
          <a:ln w="0">
            <a:noFill/>
          </a:ln>
        </p:spPr>
      </p:pic>
      <p:sp>
        <p:nvSpPr>
          <p:cNvPr id="144" name="Obdĺžnik 7"/>
          <p:cNvSpPr/>
          <p:nvPr/>
        </p:nvSpPr>
        <p:spPr>
          <a:xfrm>
            <a:off x="3655800" y="6165720"/>
            <a:ext cx="127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IMF,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4716360" y="1268280"/>
            <a:ext cx="3816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účasný vývoj naznačuje scenár slabého, pomalého a krehkého ožive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Rastový potenciál rozvíjajúcich sa krajín je stále nedotknutý, nad úrovňou A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iemyselná produkcia nedosahuje svoj výrobný potenciál = negatívny output ga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 USA by mal HDP rásť o 2% v 2012. Indikátory však naznačujú riziko aj pre tento región. Situácia na trhu práce sa zlepšila, ale rýchlosťou, ktorá je pre FED pomalá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y sentimentu v Eurozóne naznačujú zvýšené riziko reces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iaceré ekonomické faktory  (spotrebitelia, firmy/banky, vlády) obmedzili svoje výdav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ačasovanie obratu v reálnej ekonomike kľúčovo závisí na vývoji dlhovej krízy. Vnútorný dopyt je slabý v dôsledku prepadu sentimentu a konsolidácie, zatiaľ čo nedostatok optimizmu vysoko vplýva na  investície a spotreb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lhov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á kríza, ako ďalej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4EC9-D57B-4426-9C6F-4ADB9DE9B44E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4E0CFF27-A79E-40EA-9B23-3DA4A6779ED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187880" cy="259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4336920" y="2852640"/>
            <a:ext cx="4772160" cy="3392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4356000" y="1341360"/>
            <a:ext cx="4248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kážka riešenia dlhovej krízy v Eurozóne? Bolestivý vyrovnávací proces niektorých slabších krajín Eurozó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ignály vyčerpania fiškálnej konsolidác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Morálny hazard a averzia k prevzatiu spoločnej zodpovednosti za dlhovú záťa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95280" y="4149720"/>
            <a:ext cx="39607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ostupné zvýšenie pozornosti k problému „Fiscal cliff“ v USA. Automatické zvýšenie daní a zníženie výdavkov by spôsobili pokles HDP o 3,5% - riziko reces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otreba konsolidovania verejných financií stále vysoká v mnohých krajiná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ládny dlh/HDP aktuálne cez 80% vo všetkých vyspelých ekonomikách (G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ĺžnik 7"/>
          <p:cNvSpPr/>
          <p:nvPr/>
        </p:nvSpPr>
        <p:spPr>
          <a:xfrm>
            <a:off x="73440" y="3860640"/>
            <a:ext cx="355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Eurostat, European Commision economic spring 2012 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ĺžnik 8"/>
          <p:cNvSpPr/>
          <p:nvPr/>
        </p:nvSpPr>
        <p:spPr>
          <a:xfrm>
            <a:off x="7991640" y="6021360"/>
            <a:ext cx="111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IMF, *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ĺžnik 9"/>
          <p:cNvSpPr/>
          <p:nvPr/>
        </p:nvSpPr>
        <p:spPr>
          <a:xfrm>
            <a:off x="684360" y="1366920"/>
            <a:ext cx="22320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100" spc="-1" strike="noStrike">
                <a:solidFill>
                  <a:srgbClr val="000000"/>
                </a:solidFill>
                <a:latin typeface="Arial"/>
              </a:rPr>
              <a:t>Vývoj deficitu a dlhu v EÚ a E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A3F6-E8A9-4D65-A286-0188B8431C06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124E66DB-E02B-4C21-A070-B4D0AD79347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700200" y="2247840"/>
            <a:ext cx="6392880" cy="38451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Inflácia a jej očakávaný vývoj (pohľad č.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Rovná spojovacia šípka 6"/>
          <p:cNvCxnSpPr/>
          <p:nvPr/>
        </p:nvCxnSpPr>
        <p:spPr>
          <a:xfrm>
            <a:off x="5795640" y="3644640"/>
            <a:ext cx="1297800" cy="4323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9" name="Rovná spojovacia šípka 8"/>
          <p:cNvCxnSpPr/>
          <p:nvPr/>
        </p:nvCxnSpPr>
        <p:spPr>
          <a:xfrm>
            <a:off x="5651640" y="4292640"/>
            <a:ext cx="1442160" cy="289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0" name="Obdĺžnik 7"/>
          <p:cNvSpPr/>
          <p:nvPr/>
        </p:nvSpPr>
        <p:spPr>
          <a:xfrm>
            <a:off x="349524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539640" y="1268280"/>
            <a:ext cx="8064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odukcia, ktorá nedosahuje svoj výrobný potenciál a obmedzovanie výdavkov spôsobujú, že inflácia je tiež nízka. Inflačné riziká plynú z cien potravín, energie, ako aj z vládneho sekto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labý ekonomický rast a vysoká nezamestnanosť spôsobia tlak na pokles inflácie v strednodobom výhľa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96BF-EF5A-423F-AFAC-BCD9D4A699E5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ECBAC85D-18D2-464C-89DE-DE0368BFE2F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611280" y="1711440"/>
            <a:ext cx="6985080" cy="4314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Inflácia a jej očakávaný vývoj (pohľad č.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bdĺžnik 7"/>
          <p:cNvSpPr/>
          <p:nvPr/>
        </p:nvSpPr>
        <p:spPr>
          <a:xfrm>
            <a:off x="349524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BlokTextu 10"/>
          <p:cNvSpPr/>
          <p:nvPr/>
        </p:nvSpPr>
        <p:spPr>
          <a:xfrm>
            <a:off x="7530120" y="2565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83676"/>
                </a:solidFill>
                <a:latin typeface="Arial"/>
              </a:rPr>
              <a:t>2,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BlokTextu 11"/>
          <p:cNvSpPr/>
          <p:nvPr/>
        </p:nvSpPr>
        <p:spPr>
          <a:xfrm>
            <a:off x="7530120" y="2852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0000"/>
                </a:solidFill>
                <a:latin typeface="Arial"/>
              </a:rPr>
              <a:t>1,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BlokTextu 12"/>
          <p:cNvSpPr/>
          <p:nvPr/>
        </p:nvSpPr>
        <p:spPr>
          <a:xfrm>
            <a:off x="7530120" y="3203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1,3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BlokTextu 13"/>
          <p:cNvSpPr/>
          <p:nvPr/>
        </p:nvSpPr>
        <p:spPr>
          <a:xfrm>
            <a:off x="7530120" y="3492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cdedf4"/>
                </a:solidFill>
                <a:latin typeface="Arial"/>
              </a:rPr>
              <a:t>1,2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68360" y="1339920"/>
            <a:ext cx="828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Aký vývoj inflácie predikujú štátne dlhopisy (break even sadzby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ál 15"/>
          <p:cNvSpPr/>
          <p:nvPr/>
        </p:nvSpPr>
        <p:spPr>
          <a:xfrm>
            <a:off x="7093080" y="2492280"/>
            <a:ext cx="287280" cy="1297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BlokTextu 16"/>
          <p:cNvSpPr/>
          <p:nvPr/>
        </p:nvSpPr>
        <p:spPr>
          <a:xfrm rot="16200000">
            <a:off x="656640" y="3403800"/>
            <a:ext cx="1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F11E-B87D-43A3-A3F6-D56146F8DD53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A32347D7-F484-4366-82DC-4CF9D1EB02B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C:\USERS\BloombergSAM\Desktop\ilbe.gif"/>
          <p:cNvPicPr/>
          <p:nvPr/>
        </p:nvPicPr>
        <p:blipFill>
          <a:blip r:embed="rId1"/>
          <a:stretch/>
        </p:blipFill>
        <p:spPr>
          <a:xfrm>
            <a:off x="611280" y="1504800"/>
            <a:ext cx="7632720" cy="45882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Inflácia a jej očakávaný vývoj (pohľad č.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611280" y="1411200"/>
            <a:ext cx="77058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Ako predikujú vývoj inflácie swapové derivá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dĺžnik 7"/>
          <p:cNvSpPr/>
          <p:nvPr/>
        </p:nvSpPr>
        <p:spPr>
          <a:xfrm>
            <a:off x="349524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Zástupný symbol päty 3"/>
          <p:cNvSpPr/>
          <p:nvPr/>
        </p:nvSpPr>
        <p:spPr>
          <a:xfrm>
            <a:off x="468360" y="6303960"/>
            <a:ext cx="43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Vývoj a perspektívy peňažného a dlhopisového trhu.  Dlhová kríza suverénnych štátov. </a:t>
            </a:r>
            <a:fld id="{2F4CB7CF-D843-483E-9AA0-1A4743E5ACDD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E67A4207-F306-47A1-BE36-CB91C6B1435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eflácia, deflačná špirála a dlhové breme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Zástupný symbol obsahu 7" descr=""/>
          <p:cNvPicPr/>
          <p:nvPr/>
        </p:nvPicPr>
        <p:blipFill>
          <a:blip r:embed="rId1"/>
          <a:stretch/>
        </p:blipFill>
        <p:spPr>
          <a:xfrm>
            <a:off x="438120" y="1755720"/>
            <a:ext cx="8315280" cy="4248360"/>
          </a:xfrm>
          <a:prstGeom prst="rect">
            <a:avLst/>
          </a:prstGeom>
          <a:ln w="0">
            <a:noFill/>
          </a:ln>
        </p:spPr>
      </p:pic>
      <p:sp>
        <p:nvSpPr>
          <p:cNvPr id="181" name="Šípka doprava 9"/>
          <p:cNvSpPr/>
          <p:nvPr/>
        </p:nvSpPr>
        <p:spPr>
          <a:xfrm rot="2956800">
            <a:off x="2116080" y="3709800"/>
            <a:ext cx="555480" cy="425520"/>
          </a:xfrm>
          <a:prstGeom prst="rightArrow">
            <a:avLst>
              <a:gd name="adj1" fmla="val 60000"/>
              <a:gd name="adj2" fmla="val 49980"/>
            </a:avLst>
          </a:prstGeom>
          <a:solidFill>
            <a:srgbClr val="daede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95280" y="1341360"/>
            <a:ext cx="7705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5188"/>
                </a:solidFill>
                <a:latin typeface="Arial"/>
              </a:rPr>
              <a:t>Prečo sa centrálne banky snažia zabrániť deflačným riziká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Globálne CB – totálna expanzívna menová politik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20B9-E27F-45C7-9568-26F7D82E489E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389BF426-6EB2-435C-A984-6E45218B393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961080" cy="2382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4572000" y="1268280"/>
            <a:ext cx="4032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Komplexnejšie problémy ekonomického prostredia - komplexnejšia menová politika svetových centrálnych bánk ako reakc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Centrálne banky budú aj naďalej uplatňovať  politiku ultra-nízkych úrokov (štandardné nástroje), ako aj neštandardné menové nástroje (likvidita, OM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d ECB sa očakáva, že ponechá súčasné nízke sadzby minimálne až do konca roku 20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MT program sterilizovaného odkupu dlhopisov – prevencia „tail risks“ súvisiacich so stabilitou menového systém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Fed oznámil program QE3 prostredníctvom trhu hypotekárnych CP (MBS), politika nízkych sadzieb minimálne do polovice roka 201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Deklarovaný cieľ Fedu = znížiť mieru nezamestnanosti, OMT program = orientácia na zníženie kreditnej priráž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3961080" cy="2382840"/>
          </a:xfrm>
          <a:prstGeom prst="rect">
            <a:avLst/>
          </a:prstGeom>
          <a:ln w="0">
            <a:noFill/>
          </a:ln>
        </p:spPr>
      </p:pic>
      <p:sp>
        <p:nvSpPr>
          <p:cNvPr id="188" name="Obdĺžnik 7"/>
          <p:cNvSpPr/>
          <p:nvPr/>
        </p:nvSpPr>
        <p:spPr>
          <a:xfrm>
            <a:off x="542520" y="6021360"/>
            <a:ext cx="103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Bloombe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dĺžnik 7"/>
          <p:cNvSpPr/>
          <p:nvPr/>
        </p:nvSpPr>
        <p:spPr>
          <a:xfrm>
            <a:off x="476280" y="342900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sk-SK" sz="800" spc="-1" strike="noStrike">
                <a:solidFill>
                  <a:srgbClr val="000000"/>
                </a:solidFill>
                <a:latin typeface="Arial"/>
              </a:rPr>
              <a:t>áza rok 2000 = 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4:30:59Z</dcterms:created>
  <dc:creator>J133JJC</dc:creator>
  <dc:description/>
  <dc:language>en-US</dc:language>
  <cp:lastModifiedBy>HERMAN Peter</cp:lastModifiedBy>
  <cp:lastPrinted>2009-09-01T07:59:28Z</cp:lastPrinted>
  <dcterms:modified xsi:type="dcterms:W3CDTF">2012-11-02T10:10:50Z</dcterms:modified>
  <cp:revision>283</cp:revision>
  <dc:subject/>
  <dc:title>Titel der Präsentation</dc:title>
</cp:coreProperties>
</file>